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519FA-5923-4E62-82E3-EED688ADBA42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156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4360" y="434196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模板来自于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http://docer.wps.c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灯片编号占位符 3"/>
          <p:cNvSpPr/>
          <p:nvPr/>
        </p:nvSpPr>
        <p:spPr>
          <a:xfrm>
            <a:off x="3882960" y="86835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6CF94-0583-446F-AF2A-F91495D96B4C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156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4360" y="434196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模板来自于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http://docer.wps.c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灯片编号占位符 3"/>
          <p:cNvSpPr/>
          <p:nvPr/>
        </p:nvSpPr>
        <p:spPr>
          <a:xfrm>
            <a:off x="3882960" y="86835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138B1-6690-49BB-B103-53275E660482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0160" y="1141560"/>
            <a:ext cx="4114800" cy="308592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4360" y="4398840"/>
            <a:ext cx="548640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模板来自于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http://docer.wps.c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灯片编号占位符 3"/>
          <p:cNvSpPr/>
          <p:nvPr/>
        </p:nvSpPr>
        <p:spPr>
          <a:xfrm>
            <a:off x="3882960" y="868356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3CA84-D686-4197-9287-4F24B13B3513}" type="slidenum">
              <a:rPr b="0" lang="zh-CN" sz="1200" spc="-1" strike="noStrike">
                <a:solidFill>
                  <a:srgbClr val="046ca6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156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4360" y="434196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模板来自于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http://docer.wps.c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灯片编号占位符 3"/>
          <p:cNvSpPr/>
          <p:nvPr/>
        </p:nvSpPr>
        <p:spPr>
          <a:xfrm>
            <a:off x="3882960" y="86835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30DBA-45E9-4733-87C9-4ED7FD25CAEC}" type="slidenum">
              <a:rPr b="0" lang="zh-CN" sz="1200" spc="-1" strike="noStrike">
                <a:solidFill>
                  <a:srgbClr val="046ca6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0160" y="1141560"/>
            <a:ext cx="4114800" cy="308592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4360" y="4398840"/>
            <a:ext cx="548640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模板来自于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http://docer.wps.c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灯片编号占位符 3"/>
          <p:cNvSpPr/>
          <p:nvPr/>
        </p:nvSpPr>
        <p:spPr>
          <a:xfrm>
            <a:off x="3882960" y="868356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DE00D-2AE2-4FA5-A28B-A78FD4CDD4E4}" type="slidenum">
              <a:rPr b="0" lang="zh-CN" sz="1200" spc="-1" strike="noStrike">
                <a:solidFill>
                  <a:srgbClr val="046ca6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156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4360" y="434196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模板来自于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http://docer.wps.c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灯片编号占位符 3"/>
          <p:cNvSpPr/>
          <p:nvPr/>
        </p:nvSpPr>
        <p:spPr>
          <a:xfrm>
            <a:off x="3882960" y="86835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CC570-2F99-45B5-A331-5A644238C52C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0160" y="1141560"/>
            <a:ext cx="4114800" cy="308592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4360" y="4398840"/>
            <a:ext cx="548640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模板来自于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http://docer.wps.c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灯片编号占位符 3"/>
          <p:cNvSpPr/>
          <p:nvPr/>
        </p:nvSpPr>
        <p:spPr>
          <a:xfrm>
            <a:off x="3882960" y="868356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87F7D-6F07-4C41-9888-EE1FE5A1D996}" type="slidenum">
              <a:rPr b="0" lang="zh-CN" sz="1200" spc="-1" strike="noStrike">
                <a:solidFill>
                  <a:srgbClr val="046ca6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156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4360" y="434196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模板来自于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http://docer.wps.c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灯片编号占位符 3"/>
          <p:cNvSpPr/>
          <p:nvPr/>
        </p:nvSpPr>
        <p:spPr>
          <a:xfrm>
            <a:off x="3882960" y="86835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E7BE1-1654-4302-AC84-AF9DC9D453EC}" type="slidenum">
              <a:rPr b="0" lang="zh-CN" sz="1200" spc="-1" strike="noStrike">
                <a:solidFill>
                  <a:srgbClr val="046ca6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0160" y="1141560"/>
            <a:ext cx="4114800" cy="308592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4360" y="4398840"/>
            <a:ext cx="548640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模板来自于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http://docer.wps.c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灯片编号占位符 3"/>
          <p:cNvSpPr/>
          <p:nvPr/>
        </p:nvSpPr>
        <p:spPr>
          <a:xfrm>
            <a:off x="3882960" y="868356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DEB3C-BCA5-43F9-A866-4C636C736ABF}" type="slidenum">
              <a:rPr b="0" lang="zh-CN" sz="1200" spc="-1" strike="noStrike">
                <a:solidFill>
                  <a:srgbClr val="046ca6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370160" y="1141560"/>
            <a:ext cx="4114800" cy="308592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4360" y="4398840"/>
            <a:ext cx="548640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模板来自于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http://docer.wps.c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灯片编号占位符 3"/>
          <p:cNvSpPr/>
          <p:nvPr/>
        </p:nvSpPr>
        <p:spPr>
          <a:xfrm>
            <a:off x="3882960" y="868356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E13C3-7F14-4562-ABD5-4E6AB8863D19}" type="slidenum">
              <a:rPr b="0" lang="zh-CN" sz="1200" spc="-1" strike="noStrike">
                <a:solidFill>
                  <a:srgbClr val="046ca6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94E361-3C65-4C4F-9D20-2CE6D4F99DF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065CC2-42CC-4AEE-AE73-F139627B0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5A03CC-AA8B-4655-8AA7-4126C333A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2D1A16-E179-4949-A6E7-2EC19D1E72B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C4C75B-7F47-4C00-8E0E-7FA7CABA2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9CA65A-7E34-489F-A893-64FF16FB1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4F65B4-53BE-4AC0-B544-DE5104E60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59063F-73C6-4386-8EDB-69F97AEBC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AF7BD5-F81F-45D3-A4DB-C12735C3A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2F40B8-2788-4E9C-9ACE-40A3E390F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5E035D-AF1E-409F-9960-AB21F0097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FEBD67-3A68-4C37-BD75-2E0550CC6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8DDEC6-BF9F-49BC-A1B1-7ECE47591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388987-5F83-43C3-9F99-A75482772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51EDEF-1F2A-4D27-AEAF-8AAE7CCA1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8FCF14-8735-45B4-AB55-6FECEC16E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E2EF25-1C8F-4513-A44E-B0FE33DD2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1CACD0-2953-4054-A3BB-CC5BE1A22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341967-0939-4D95-9332-EF6D33D7F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4E91A2-A96D-4928-9515-27D67944D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2598F1-498B-466A-BAD3-2F0F60573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2C5755-2430-484C-9F6F-0243BD413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E62088-9C67-46BE-AFA8-8060BF058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1995D3-2BBF-4993-9367-A646273BA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04103-D359-4407-9BDE-DA5B993D2895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0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C088B-799C-4EB6-8681-B5C4E28BDAFF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九章 </a:t>
            </a:r>
            <a:br>
              <a:rPr sz="5400"/>
            </a:br>
            <a:r>
              <a:rPr b="1" lang="zh-CN" sz="5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护理质量管理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许丽娟  延边大学护理学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质量管理的定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8ac8de"/>
              </a:solidFill>
              <a:latin typeface="Verdana"/>
              <a:ea typeface="宋体"/>
            </a:endParaRPr>
          </a:p>
        </p:txBody>
      </p:sp>
      <p:grpSp>
        <p:nvGrpSpPr>
          <p:cNvPr id="224" name="Group 4"/>
          <p:cNvGrpSpPr/>
          <p:nvPr/>
        </p:nvGrpSpPr>
        <p:grpSpPr>
          <a:xfrm>
            <a:off x="511920" y="1468440"/>
            <a:ext cx="7228800" cy="4768560"/>
            <a:chOff x="511920" y="1468440"/>
            <a:chExt cx="7228800" cy="4768560"/>
          </a:xfrm>
        </p:grpSpPr>
        <p:sp>
          <p:nvSpPr>
            <p:cNvPr id="225" name="圆角矩形 26"/>
            <p:cNvSpPr/>
            <p:nvPr/>
          </p:nvSpPr>
          <p:spPr>
            <a:xfrm>
              <a:off x="1705320" y="2898000"/>
              <a:ext cx="6035400" cy="3339000"/>
            </a:xfrm>
            <a:prstGeom prst="roundRect">
              <a:avLst>
                <a:gd name="adj" fmla="val 2185"/>
              </a:avLst>
            </a:prstGeom>
            <a:solidFill>
              <a:srgbClr val="f2d6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6" name="圆角矩形 27"/>
            <p:cNvSpPr/>
            <p:nvPr/>
          </p:nvSpPr>
          <p:spPr>
            <a:xfrm>
              <a:off x="2025360" y="3040920"/>
              <a:ext cx="5453280" cy="2973600"/>
            </a:xfrm>
            <a:prstGeom prst="roundRect">
              <a:avLst>
                <a:gd name="adj" fmla="val 2569"/>
              </a:avLst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7" name="圆角矩形 30"/>
            <p:cNvSpPr/>
            <p:nvPr/>
          </p:nvSpPr>
          <p:spPr>
            <a:xfrm>
              <a:off x="2143440" y="3103920"/>
              <a:ext cx="5240160" cy="2810160"/>
            </a:xfrm>
            <a:prstGeom prst="roundRect">
              <a:avLst>
                <a:gd name="adj" fmla="val 2199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180000" tIns="90000" bIns="90000" anchor="ctr">
              <a:normAutofit/>
            </a:bodyPr>
            <a:p>
              <a:pPr algn="just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46ca6"/>
                  </a:solidFill>
                  <a:latin typeface="黑体"/>
                  <a:ea typeface="黑体"/>
                </a:rPr>
                <a:t>    </a:t>
              </a:r>
              <a:r>
                <a:rPr b="1" lang="zh-CN" sz="2800" spc="-1" strike="noStrike">
                  <a:solidFill>
                    <a:srgbClr val="046ca6"/>
                  </a:solidFill>
                  <a:latin typeface="微软雅黑"/>
                  <a:ea typeface="微软雅黑"/>
                </a:rPr>
                <a:t>对构成护理质量的各要素进行计划、组织、协调和控制，以保证护理工作达到规定的标准和满足服务对象需要的活动过程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28" name="Group 8"/>
            <p:cNvGrpSpPr/>
            <p:nvPr/>
          </p:nvGrpSpPr>
          <p:grpSpPr>
            <a:xfrm>
              <a:off x="511920" y="1468440"/>
              <a:ext cx="3511440" cy="1452960"/>
              <a:chOff x="511920" y="1468440"/>
              <a:chExt cx="3511440" cy="1452960"/>
            </a:xfrm>
          </p:grpSpPr>
          <p:sp>
            <p:nvSpPr>
              <p:cNvPr id="229" name="任意多边形 23"/>
              <p:cNvSpPr/>
              <p:nvPr/>
            </p:nvSpPr>
            <p:spPr>
              <a:xfrm>
                <a:off x="1152360" y="2719440"/>
                <a:ext cx="775440" cy="201960"/>
              </a:xfrm>
              <a:custGeom>
                <a:avLst/>
                <a:gdLst/>
                <a:ahLst/>
                <a:rect l="l" t="t" r="r" b="b"/>
                <a:pathLst>
                  <a:path w="353060" h="126326">
                    <a:moveTo>
                      <a:pt x="132234" y="0"/>
                    </a:moveTo>
                    <a:lnTo>
                      <a:pt x="353060" y="126326"/>
                    </a:lnTo>
                    <a:lnTo>
                      <a:pt x="0" y="39204"/>
                    </a:lnTo>
                    <a:lnTo>
                      <a:pt x="132234" y="0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0" name="任意多边形 22"/>
              <p:cNvSpPr/>
              <p:nvPr/>
            </p:nvSpPr>
            <p:spPr>
              <a:xfrm>
                <a:off x="887760" y="2241360"/>
                <a:ext cx="600840" cy="542160"/>
              </a:xfrm>
              <a:custGeom>
                <a:avLst/>
                <a:gdLst/>
                <a:ahLst/>
                <a:rect l="l" t="t" r="r" b="b"/>
                <a:pathLst>
                  <a:path w="420624" h="585216">
                    <a:moveTo>
                      <a:pt x="0" y="54864"/>
                    </a:moveTo>
                    <a:lnTo>
                      <a:pt x="192024" y="585216"/>
                    </a:lnTo>
                    <a:lnTo>
                      <a:pt x="393192" y="521208"/>
                    </a:lnTo>
                    <a:lnTo>
                      <a:pt x="420624" y="0"/>
                    </a:lnTo>
                    <a:lnTo>
                      <a:pt x="0" y="54864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1" name="任意多边形 21"/>
              <p:cNvSpPr/>
              <p:nvPr/>
            </p:nvSpPr>
            <p:spPr>
              <a:xfrm>
                <a:off x="678600" y="1628640"/>
                <a:ext cx="3313800" cy="901080"/>
              </a:xfrm>
              <a:custGeom>
                <a:avLst/>
                <a:gdLst/>
                <a:ahLst/>
                <a:rect l="l" t="t" r="r" b="b"/>
                <a:pathLst>
                  <a:path w="4562856" h="1911096">
                    <a:moveTo>
                      <a:pt x="45720" y="475488"/>
                    </a:moveTo>
                    <a:lnTo>
                      <a:pt x="4562856" y="0"/>
                    </a:lnTo>
                    <a:lnTo>
                      <a:pt x="4178808" y="1417320"/>
                    </a:lnTo>
                    <a:lnTo>
                      <a:pt x="0" y="1911096"/>
                    </a:lnTo>
                    <a:lnTo>
                      <a:pt x="45720" y="47548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2" name="任意多边形 37"/>
              <p:cNvSpPr/>
              <p:nvPr/>
            </p:nvSpPr>
            <p:spPr>
              <a:xfrm rot="21180000">
                <a:off x="539640" y="1676520"/>
                <a:ext cx="3455640" cy="66888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46ca6"/>
                    </a:solidFill>
                    <a:latin typeface="微软雅黑"/>
                    <a:ea typeface="微软雅黑"/>
                  </a:rPr>
                  <a:t>护理质量管理</a:t>
                </a:r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10"/>
          <p:cNvSpPr/>
          <p:nvPr/>
        </p:nvSpPr>
        <p:spPr>
          <a:xfrm>
            <a:off x="912960" y="3054240"/>
            <a:ext cx="644400" cy="58896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erlin Sans FB"/>
                <a:ea typeface="宋体"/>
              </a:rPr>
              <a:t>02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Line 11"/>
          <p:cNvSpPr/>
          <p:nvPr/>
        </p:nvSpPr>
        <p:spPr>
          <a:xfrm>
            <a:off x="1563840" y="2924280"/>
            <a:ext cx="0" cy="871560"/>
          </a:xfrm>
          <a:prstGeom prst="line">
            <a:avLst/>
          </a:prstGeom>
          <a:ln w="2844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Rectangle 13"/>
          <p:cNvSpPr/>
          <p:nvPr/>
        </p:nvSpPr>
        <p:spPr>
          <a:xfrm>
            <a:off x="901800" y="4299120"/>
            <a:ext cx="644400" cy="5904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erlin Sans FB"/>
                <a:ea typeface="宋体"/>
              </a:rPr>
              <a:t>03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6" name="Line 14"/>
          <p:cNvSpPr/>
          <p:nvPr/>
        </p:nvSpPr>
        <p:spPr>
          <a:xfrm>
            <a:off x="1552680" y="4168800"/>
            <a:ext cx="0" cy="871560"/>
          </a:xfrm>
          <a:prstGeom prst="line">
            <a:avLst/>
          </a:prstGeom>
          <a:ln w="2844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" name="Rectangle 16"/>
          <p:cNvSpPr/>
          <p:nvPr/>
        </p:nvSpPr>
        <p:spPr>
          <a:xfrm>
            <a:off x="900000" y="5495760"/>
            <a:ext cx="644760" cy="59076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erlin Sans FB"/>
                <a:ea typeface="宋体"/>
              </a:rPr>
              <a:t>04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Line 17"/>
          <p:cNvSpPr/>
          <p:nvPr/>
        </p:nvSpPr>
        <p:spPr>
          <a:xfrm>
            <a:off x="1550880" y="5365800"/>
            <a:ext cx="0" cy="873000"/>
          </a:xfrm>
          <a:prstGeom prst="line">
            <a:avLst/>
          </a:prstGeom>
          <a:ln w="284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Rectangle 19"/>
          <p:cNvSpPr/>
          <p:nvPr/>
        </p:nvSpPr>
        <p:spPr>
          <a:xfrm>
            <a:off x="914400" y="1838160"/>
            <a:ext cx="644400" cy="587520"/>
          </a:xfrm>
          <a:prstGeom prst="rect">
            <a:avLst/>
          </a:prstGeom>
          <a:solidFill>
            <a:srgbClr val="fa72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erlin Sans FB"/>
                <a:ea typeface="宋体"/>
              </a:rPr>
              <a:t>01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Line 20"/>
          <p:cNvSpPr/>
          <p:nvPr/>
        </p:nvSpPr>
        <p:spPr>
          <a:xfrm>
            <a:off x="1565280" y="1706400"/>
            <a:ext cx="0" cy="871560"/>
          </a:xfrm>
          <a:prstGeom prst="line">
            <a:avLst/>
          </a:prstGeom>
          <a:ln w="28440">
            <a:solidFill>
              <a:srgbClr val="fa7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" name="Rectangle 21"/>
          <p:cNvSpPr/>
          <p:nvPr/>
        </p:nvSpPr>
        <p:spPr>
          <a:xfrm>
            <a:off x="1584360" y="1701720"/>
            <a:ext cx="678024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cc"/>
                </a:solidFill>
                <a:latin typeface="Arial"/>
                <a:ea typeface="微软雅黑"/>
              </a:rPr>
              <a:t>制定护理质量目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切实可行、可测量、随时修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2" name="Rectangle 22"/>
          <p:cNvSpPr/>
          <p:nvPr/>
        </p:nvSpPr>
        <p:spPr>
          <a:xfrm>
            <a:off x="1584360" y="2921040"/>
            <a:ext cx="678024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ff99"/>
                </a:solidFill>
                <a:latin typeface="Arial"/>
                <a:ea typeface="微软雅黑"/>
              </a:rPr>
              <a:t>建立质量管理体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Arial"/>
                <a:ea typeface="微软雅黑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组织结构的设置、工作流程优化和规范、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工作过程的监控、终末质量监控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3" name="Rectangle 23"/>
          <p:cNvSpPr/>
          <p:nvPr/>
        </p:nvSpPr>
        <p:spPr>
          <a:xfrm>
            <a:off x="1584360" y="4168800"/>
            <a:ext cx="646092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c00"/>
                </a:solidFill>
                <a:latin typeface="Arial"/>
                <a:ea typeface="微软雅黑"/>
              </a:rPr>
              <a:t>建立和完善护理质量文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岗位职责、各种标准和规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4" name="Rectangle 24"/>
          <p:cNvSpPr/>
          <p:nvPr/>
        </p:nvSpPr>
        <p:spPr>
          <a:xfrm>
            <a:off x="1584360" y="5378400"/>
            <a:ext cx="702144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ffff"/>
                </a:solidFill>
                <a:latin typeface="Arial"/>
                <a:ea typeface="微软雅黑"/>
              </a:rPr>
              <a:t>制订和更新护理质量标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lIns="900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护理质量管理的任务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6" name="Group 2"/>
          <p:cNvGrpSpPr/>
          <p:nvPr/>
        </p:nvGrpSpPr>
        <p:grpSpPr>
          <a:xfrm>
            <a:off x="971640" y="1989000"/>
            <a:ext cx="7462800" cy="3338640"/>
            <a:chOff x="971640" y="1989000"/>
            <a:chExt cx="7462800" cy="3338640"/>
          </a:xfrm>
        </p:grpSpPr>
        <p:sp>
          <p:nvSpPr>
            <p:cNvPr id="247" name="Rectangle 10"/>
            <p:cNvSpPr/>
            <p:nvPr/>
          </p:nvSpPr>
          <p:spPr>
            <a:xfrm>
              <a:off x="981720" y="3341880"/>
              <a:ext cx="644400" cy="588240"/>
            </a:xfrm>
            <a:prstGeom prst="rect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Berlin Sans FB"/>
                  <a:ea typeface="宋体"/>
                </a:rPr>
                <a:t>06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8" name="Line 11"/>
            <p:cNvSpPr/>
            <p:nvPr/>
          </p:nvSpPr>
          <p:spPr>
            <a:xfrm>
              <a:off x="1632600" y="3210840"/>
              <a:ext cx="0" cy="871560"/>
            </a:xfrm>
            <a:prstGeom prst="line">
              <a:avLst/>
            </a:prstGeom>
            <a:ln w="2844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9" name="Rectangle 13"/>
            <p:cNvSpPr/>
            <p:nvPr/>
          </p:nvSpPr>
          <p:spPr>
            <a:xfrm>
              <a:off x="971640" y="4585680"/>
              <a:ext cx="644400" cy="59040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Berlin Sans FB"/>
                  <a:ea typeface="宋体"/>
                </a:rPr>
                <a:t>07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0" name="Line 14"/>
            <p:cNvSpPr/>
            <p:nvPr/>
          </p:nvSpPr>
          <p:spPr>
            <a:xfrm>
              <a:off x="1621800" y="4456080"/>
              <a:ext cx="0" cy="871560"/>
            </a:xfrm>
            <a:prstGeom prst="line">
              <a:avLst/>
            </a:prstGeom>
            <a:ln w="2844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1" name="Rectangle 19"/>
            <p:cNvSpPr/>
            <p:nvPr/>
          </p:nvSpPr>
          <p:spPr>
            <a:xfrm>
              <a:off x="984240" y="2125440"/>
              <a:ext cx="644400" cy="588240"/>
            </a:xfrm>
            <a:prstGeom prst="rect">
              <a:avLst/>
            </a:prstGeom>
            <a:solidFill>
              <a:srgbClr val="fa72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Berlin Sans FB"/>
                  <a:ea typeface="宋体"/>
                </a:rPr>
                <a:t>05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2" name="Line 20"/>
            <p:cNvSpPr/>
            <p:nvPr/>
          </p:nvSpPr>
          <p:spPr>
            <a:xfrm>
              <a:off x="1634400" y="1994400"/>
              <a:ext cx="0" cy="870840"/>
            </a:xfrm>
            <a:prstGeom prst="line">
              <a:avLst/>
            </a:prstGeom>
            <a:ln w="28440">
              <a:solidFill>
                <a:srgbClr val="fa72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3" name="Rectangle 21"/>
            <p:cNvSpPr/>
            <p:nvPr/>
          </p:nvSpPr>
          <p:spPr>
            <a:xfrm>
              <a:off x="1653480" y="1989000"/>
              <a:ext cx="6780960" cy="77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99cc"/>
                  </a:solidFill>
                  <a:latin typeface="Arial"/>
                  <a:ea typeface="微软雅黑"/>
                </a:rPr>
                <a:t>进行全面控制：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各个要素、各个过程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4" name="Rectangle 22"/>
            <p:cNvSpPr/>
            <p:nvPr/>
          </p:nvSpPr>
          <p:spPr>
            <a:xfrm>
              <a:off x="1653480" y="3209040"/>
              <a:ext cx="6780960" cy="77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cff99"/>
                  </a:solidFill>
                  <a:latin typeface="Arial"/>
                  <a:ea typeface="微软雅黑"/>
                </a:rPr>
                <a:t>评价和持续改进护理质量：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贯穿工作全过程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5" name="Rectangle 23"/>
            <p:cNvSpPr/>
            <p:nvPr/>
          </p:nvSpPr>
          <p:spPr>
            <a:xfrm>
              <a:off x="1653480" y="4456080"/>
              <a:ext cx="646092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cc00"/>
                  </a:solidFill>
                  <a:latin typeface="Arial"/>
                  <a:ea typeface="微软雅黑"/>
                </a:rPr>
                <a:t>进行质量教育：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增强全体护理人员的质量意识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lIns="900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护理质量管理的任务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2"/>
          <p:cNvGrpSpPr/>
          <p:nvPr/>
        </p:nvGrpSpPr>
        <p:grpSpPr>
          <a:xfrm>
            <a:off x="468360" y="2205000"/>
            <a:ext cx="8373960" cy="3762000"/>
            <a:chOff x="468360" y="2205000"/>
            <a:chExt cx="8373960" cy="3762000"/>
          </a:xfrm>
        </p:grpSpPr>
        <p:grpSp>
          <p:nvGrpSpPr>
            <p:cNvPr id="258" name="椭圆 13"/>
            <p:cNvGrpSpPr/>
            <p:nvPr/>
          </p:nvGrpSpPr>
          <p:grpSpPr>
            <a:xfrm>
              <a:off x="4767480" y="4889160"/>
              <a:ext cx="1156680" cy="1077840"/>
              <a:chOff x="4767480" y="4889160"/>
              <a:chExt cx="1156680" cy="1077840"/>
            </a:xfrm>
          </p:grpSpPr>
          <p:pic>
            <p:nvPicPr>
              <p:cNvPr id="259" name="椭圆 13" descr=""/>
              <p:cNvPicPr/>
              <p:nvPr/>
            </p:nvPicPr>
            <p:blipFill>
              <a:blip r:embed="rId1"/>
              <a:stretch/>
            </p:blipFill>
            <p:spPr>
              <a:xfrm>
                <a:off x="4767480" y="4889160"/>
                <a:ext cx="1156680" cy="1077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0" name="Text Box 5"/>
              <p:cNvSpPr/>
              <p:nvPr/>
            </p:nvSpPr>
            <p:spPr>
              <a:xfrm>
                <a:off x="4781520" y="4905000"/>
                <a:ext cx="1126440" cy="1044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4</a:t>
                </a:r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61" name="任意多边形 36"/>
            <p:cNvSpPr/>
            <p:nvPr/>
          </p:nvSpPr>
          <p:spPr>
            <a:xfrm flipH="1">
              <a:off x="5285880" y="3720960"/>
              <a:ext cx="34920" cy="1236960"/>
            </a:xfrm>
            <a:custGeom>
              <a:avLst/>
              <a:gdLst/>
              <a:ahLst/>
              <a:rect l="l" t="t" r="r" b="b"/>
              <a:pathLst>
                <a:path w="34925" h="836023">
                  <a:moveTo>
                    <a:pt x="0" y="836023"/>
                  </a:move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d9d9d9"/>
              </a:solidFill>
              <a:prstDash val="sysDash"/>
              <a:miter/>
              <a:headEnd len="med" type="diamond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62" name="椭圆 12"/>
            <p:cNvGrpSpPr/>
            <p:nvPr/>
          </p:nvGrpSpPr>
          <p:grpSpPr>
            <a:xfrm>
              <a:off x="3346560" y="4889160"/>
              <a:ext cx="1152360" cy="1077840"/>
              <a:chOff x="3346560" y="4889160"/>
              <a:chExt cx="1152360" cy="1077840"/>
            </a:xfrm>
          </p:grpSpPr>
          <p:pic>
            <p:nvPicPr>
              <p:cNvPr id="263" name="椭圆 12" descr=""/>
              <p:cNvPicPr/>
              <p:nvPr/>
            </p:nvPicPr>
            <p:blipFill>
              <a:blip r:embed="rId2"/>
              <a:stretch/>
            </p:blipFill>
            <p:spPr>
              <a:xfrm>
                <a:off x="3346560" y="4889160"/>
                <a:ext cx="1152360" cy="1077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4" name="Text Box 9"/>
              <p:cNvSpPr/>
              <p:nvPr/>
            </p:nvSpPr>
            <p:spPr>
              <a:xfrm>
                <a:off x="3359160" y="4905000"/>
                <a:ext cx="1127160" cy="1044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3</a:t>
                </a:r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65" name="任意多边形 34"/>
            <p:cNvSpPr/>
            <p:nvPr/>
          </p:nvSpPr>
          <p:spPr>
            <a:xfrm>
              <a:off x="3923280" y="4330440"/>
              <a:ext cx="360" cy="627120"/>
            </a:xfrm>
            <a:custGeom>
              <a:avLst/>
              <a:gdLst/>
              <a:ahLst/>
              <a:rect l="l" t="t" r="r" b="b"/>
              <a:pathLst>
                <a:path w="0" h="836023">
                  <a:moveTo>
                    <a:pt x="0" y="836023"/>
                  </a:move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d9d9d9"/>
              </a:solidFill>
              <a:prstDash val="sysDash"/>
              <a:miter/>
              <a:headEnd len="med" type="diamond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66" name="椭圆 11"/>
            <p:cNvGrpSpPr/>
            <p:nvPr/>
          </p:nvGrpSpPr>
          <p:grpSpPr>
            <a:xfrm>
              <a:off x="1968480" y="4889160"/>
              <a:ext cx="1158840" cy="1077840"/>
              <a:chOff x="1968480" y="4889160"/>
              <a:chExt cx="1158840" cy="1077840"/>
            </a:xfrm>
          </p:grpSpPr>
          <p:pic>
            <p:nvPicPr>
              <p:cNvPr id="267" name="椭圆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1968480" y="4889160"/>
                <a:ext cx="1158840" cy="1077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8" name="Text Box 13"/>
              <p:cNvSpPr/>
              <p:nvPr/>
            </p:nvSpPr>
            <p:spPr>
              <a:xfrm>
                <a:off x="1986120" y="4905000"/>
                <a:ext cx="1126800" cy="1044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2</a:t>
                </a:r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69" name="任意多边形 32"/>
            <p:cNvSpPr/>
            <p:nvPr/>
          </p:nvSpPr>
          <p:spPr>
            <a:xfrm>
              <a:off x="2532600" y="3720960"/>
              <a:ext cx="34920" cy="1236960"/>
            </a:xfrm>
            <a:custGeom>
              <a:avLst/>
              <a:gdLst/>
              <a:ahLst/>
              <a:rect l="l" t="t" r="r" b="b"/>
              <a:pathLst>
                <a:path w="34925" h="836023">
                  <a:moveTo>
                    <a:pt x="0" y="836023"/>
                  </a:move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d9d9d9"/>
              </a:solidFill>
              <a:prstDash val="sysDash"/>
              <a:miter/>
              <a:headEnd len="med" type="diamond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70" name="椭圆 10"/>
            <p:cNvGrpSpPr/>
            <p:nvPr/>
          </p:nvGrpSpPr>
          <p:grpSpPr>
            <a:xfrm>
              <a:off x="549360" y="4889160"/>
              <a:ext cx="1157400" cy="1077840"/>
              <a:chOff x="549360" y="4889160"/>
              <a:chExt cx="1157400" cy="1077840"/>
            </a:xfrm>
          </p:grpSpPr>
          <p:pic>
            <p:nvPicPr>
              <p:cNvPr id="271" name="椭圆 10" descr=""/>
              <p:cNvPicPr/>
              <p:nvPr/>
            </p:nvPicPr>
            <p:blipFill>
              <a:blip r:embed="rId4"/>
              <a:stretch/>
            </p:blipFill>
            <p:spPr>
              <a:xfrm>
                <a:off x="549360" y="4889160"/>
                <a:ext cx="1157400" cy="1077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2" name="Text Box 17"/>
              <p:cNvSpPr/>
              <p:nvPr/>
            </p:nvSpPr>
            <p:spPr>
              <a:xfrm>
                <a:off x="563760" y="4905000"/>
                <a:ext cx="1127160" cy="1044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1</a:t>
                </a:r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73" name="任意多边形 30"/>
            <p:cNvSpPr/>
            <p:nvPr/>
          </p:nvSpPr>
          <p:spPr>
            <a:xfrm>
              <a:off x="1127160" y="4330440"/>
              <a:ext cx="360" cy="627120"/>
            </a:xfrm>
            <a:custGeom>
              <a:avLst/>
              <a:gdLst/>
              <a:ahLst/>
              <a:rect l="l" t="t" r="r" b="b"/>
              <a:pathLst>
                <a:path w="0" h="836023">
                  <a:moveTo>
                    <a:pt x="0" y="836023"/>
                  </a:move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d9d9d9"/>
              </a:solidFill>
              <a:prstDash val="sysDash"/>
              <a:miter/>
              <a:headEnd len="med" type="diamond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74" name="椭圆 12"/>
            <p:cNvGrpSpPr/>
            <p:nvPr/>
          </p:nvGrpSpPr>
          <p:grpSpPr>
            <a:xfrm>
              <a:off x="6157080" y="4869000"/>
              <a:ext cx="1158480" cy="1077840"/>
              <a:chOff x="6157080" y="4869000"/>
              <a:chExt cx="1158480" cy="1077840"/>
            </a:xfrm>
          </p:grpSpPr>
          <p:pic>
            <p:nvPicPr>
              <p:cNvPr id="275" name="椭圆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6157080" y="4869000"/>
                <a:ext cx="1158480" cy="1077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6" name="Text Box 21"/>
              <p:cNvSpPr/>
              <p:nvPr/>
            </p:nvSpPr>
            <p:spPr>
              <a:xfrm>
                <a:off x="6169320" y="4884840"/>
                <a:ext cx="1128600" cy="1044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5</a:t>
                </a:r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77" name="任意多边形 20"/>
            <p:cNvSpPr/>
            <p:nvPr/>
          </p:nvSpPr>
          <p:spPr>
            <a:xfrm>
              <a:off x="6710760" y="4330440"/>
              <a:ext cx="360" cy="627120"/>
            </a:xfrm>
            <a:custGeom>
              <a:avLst/>
              <a:gdLst/>
              <a:ahLst/>
              <a:rect l="l" t="t" r="r" b="b"/>
              <a:pathLst>
                <a:path w="0" h="836023">
                  <a:moveTo>
                    <a:pt x="0" y="836023"/>
                  </a:move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d9d9d9"/>
              </a:solidFill>
              <a:prstDash val="sysDash"/>
              <a:miter/>
              <a:headEnd len="med" type="diamond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78" name="椭圆 13"/>
            <p:cNvGrpSpPr/>
            <p:nvPr/>
          </p:nvGrpSpPr>
          <p:grpSpPr>
            <a:xfrm>
              <a:off x="7553520" y="4889160"/>
              <a:ext cx="1157400" cy="1077840"/>
              <a:chOff x="7553520" y="4889160"/>
              <a:chExt cx="1157400" cy="1077840"/>
            </a:xfrm>
          </p:grpSpPr>
          <p:pic>
            <p:nvPicPr>
              <p:cNvPr id="279" name="椭圆 13" descr=""/>
              <p:cNvPicPr/>
              <p:nvPr/>
            </p:nvPicPr>
            <p:blipFill>
              <a:blip r:embed="rId6"/>
              <a:stretch/>
            </p:blipFill>
            <p:spPr>
              <a:xfrm>
                <a:off x="7553520" y="4889160"/>
                <a:ext cx="1157400" cy="1077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0" name="Text Box 25"/>
              <p:cNvSpPr/>
              <p:nvPr/>
            </p:nvSpPr>
            <p:spPr>
              <a:xfrm>
                <a:off x="7567920" y="4905000"/>
                <a:ext cx="1127160" cy="1044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6</a:t>
                </a:r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81" name="任意多边形 28"/>
            <p:cNvSpPr/>
            <p:nvPr/>
          </p:nvSpPr>
          <p:spPr>
            <a:xfrm flipH="1">
              <a:off x="8073000" y="3720960"/>
              <a:ext cx="34560" cy="1236960"/>
            </a:xfrm>
            <a:custGeom>
              <a:avLst/>
              <a:gdLst/>
              <a:ahLst/>
              <a:rect l="l" t="t" r="r" b="b"/>
              <a:pathLst>
                <a:path w="34925" h="836023">
                  <a:moveTo>
                    <a:pt x="0" y="836023"/>
                  </a:move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d9d9d9"/>
              </a:solidFill>
              <a:prstDash val="sysDash"/>
              <a:miter/>
              <a:headEnd len="med" type="diamond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82" name="Group 27"/>
            <p:cNvGrpSpPr/>
            <p:nvPr/>
          </p:nvGrpSpPr>
          <p:grpSpPr>
            <a:xfrm>
              <a:off x="468360" y="2205000"/>
              <a:ext cx="8373960" cy="1875960"/>
              <a:chOff x="468360" y="2205000"/>
              <a:chExt cx="8373960" cy="1875960"/>
            </a:xfrm>
          </p:grpSpPr>
          <p:sp>
            <p:nvSpPr>
              <p:cNvPr id="283" name="KSO_GT4.1"/>
              <p:cNvSpPr/>
              <p:nvPr/>
            </p:nvSpPr>
            <p:spPr>
              <a:xfrm>
                <a:off x="4569120" y="2205000"/>
                <a:ext cx="1485720" cy="1223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95000"/>
              </a:bodyPr>
              <a:p>
                <a:pPr algn="ctr"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基于事实的决策方法原则：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data-based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84" name="KSO_GT3.1"/>
              <p:cNvSpPr/>
              <p:nvPr/>
            </p:nvSpPr>
            <p:spPr>
              <a:xfrm>
                <a:off x="3254400" y="2734920"/>
                <a:ext cx="1328040" cy="1346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Arial"/>
                    <a:ea typeface="微软雅黑"/>
                  </a:rPr>
                  <a:t>全员参与的原则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85" name="KSO_GT2.1"/>
              <p:cNvSpPr/>
              <p:nvPr/>
            </p:nvSpPr>
            <p:spPr>
              <a:xfrm>
                <a:off x="1782720" y="2205000"/>
                <a:ext cx="1485720" cy="1223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77000"/>
              </a:bodyPr>
              <a:p>
                <a:pPr algn="ctr"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预防为主的原则：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do things right the first time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86" name="KSO_GT1.1"/>
              <p:cNvSpPr/>
              <p:nvPr/>
            </p:nvSpPr>
            <p:spPr>
              <a:xfrm>
                <a:off x="468360" y="2999880"/>
                <a:ext cx="1328760" cy="108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Arial"/>
                    <a:ea typeface="微软雅黑"/>
                  </a:rPr>
                  <a:t>以患者为中心原则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87" name="KSO_GT3.1"/>
              <p:cNvSpPr/>
              <p:nvPr/>
            </p:nvSpPr>
            <p:spPr>
              <a:xfrm>
                <a:off x="6040080" y="2734920"/>
                <a:ext cx="1328760" cy="1346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Arial"/>
                    <a:ea typeface="微软雅黑"/>
                  </a:rPr>
                  <a:t>系统管理方法原则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88" name="KSO_GT4.1"/>
              <p:cNvSpPr/>
              <p:nvPr/>
            </p:nvSpPr>
            <p:spPr>
              <a:xfrm>
                <a:off x="7356600" y="2205000"/>
                <a:ext cx="1485720" cy="1223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95000"/>
              </a:bodyPr>
              <a:p>
                <a:pPr algn="ctr"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持续改进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  <a:p>
                <a:pPr algn="ctr"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原则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  <a:p>
                <a:pPr algn="ctr">
                  <a:lnSpc>
                    <a:spcPct val="13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（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PDCA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）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护理质量管理的基本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Picture 3" descr=""/>
          <p:cNvPicPr/>
          <p:nvPr/>
        </p:nvPicPr>
        <p:blipFill>
          <a:blip r:embed="rId1"/>
          <a:srcRect l="57688" t="7215" r="0" b="2775"/>
          <a:stretch/>
        </p:blipFill>
        <p:spPr>
          <a:xfrm>
            <a:off x="4713120" y="1768320"/>
            <a:ext cx="54000" cy="385308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3" descr=""/>
          <p:cNvPicPr/>
          <p:nvPr/>
        </p:nvPicPr>
        <p:blipFill>
          <a:blip r:embed="rId2"/>
          <a:srcRect l="0" t="2775" r="57688" b="7215"/>
          <a:stretch/>
        </p:blipFill>
        <p:spPr>
          <a:xfrm>
            <a:off x="4349880" y="2165400"/>
            <a:ext cx="56880" cy="3852720"/>
          </a:xfrm>
          <a:prstGeom prst="rect">
            <a:avLst/>
          </a:prstGeom>
          <a:ln w="0">
            <a:noFill/>
          </a:ln>
        </p:spPr>
      </p:pic>
      <p:grpSp>
        <p:nvGrpSpPr>
          <p:cNvPr id="292" name="Group 4"/>
          <p:cNvGrpSpPr/>
          <p:nvPr/>
        </p:nvGrpSpPr>
        <p:grpSpPr>
          <a:xfrm>
            <a:off x="468360" y="2276640"/>
            <a:ext cx="7848720" cy="3151080"/>
            <a:chOff x="468360" y="2276640"/>
            <a:chExt cx="7848720" cy="3151080"/>
          </a:xfrm>
        </p:grpSpPr>
        <p:sp>
          <p:nvSpPr>
            <p:cNvPr id="293" name="矩形 13"/>
            <p:cNvSpPr/>
            <p:nvPr/>
          </p:nvSpPr>
          <p:spPr>
            <a:xfrm>
              <a:off x="5346720" y="4640400"/>
              <a:ext cx="2965320" cy="787320"/>
            </a:xfrm>
            <a:prstGeom prst="rect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幼圆"/>
                  <a:ea typeface="微软雅黑"/>
                </a:rPr>
                <a:t>严肃性、相对稳定性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4" name="矩形 14"/>
            <p:cNvSpPr/>
            <p:nvPr/>
          </p:nvSpPr>
          <p:spPr>
            <a:xfrm>
              <a:off x="5351760" y="3635640"/>
              <a:ext cx="2965320" cy="787320"/>
            </a:xfrm>
            <a:prstGeom prst="rect">
              <a:avLst/>
            </a:prstGeom>
            <a:solidFill>
              <a:srgbClr val="4fba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幼圆"/>
                  <a:ea typeface="微软雅黑"/>
                </a:rPr>
                <a:t>实用性原则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5" name="矩形 12"/>
            <p:cNvSpPr/>
            <p:nvPr/>
          </p:nvSpPr>
          <p:spPr>
            <a:xfrm>
              <a:off x="468360" y="3283920"/>
              <a:ext cx="2935440" cy="787320"/>
            </a:xfrm>
            <a:prstGeom prst="rect">
              <a:avLst/>
            </a:prstGeom>
            <a:solidFill>
              <a:srgbClr val="ffd4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幼圆"/>
                  <a:ea typeface="微软雅黑"/>
                </a:rPr>
                <a:t>科学性原则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6" name="矩形 4"/>
            <p:cNvSpPr/>
            <p:nvPr/>
          </p:nvSpPr>
          <p:spPr>
            <a:xfrm>
              <a:off x="468360" y="2276640"/>
              <a:ext cx="2935440" cy="788040"/>
            </a:xfrm>
            <a:prstGeom prst="rect">
              <a:avLst/>
            </a:prstGeom>
            <a:solidFill>
              <a:srgbClr val="f794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幼圆"/>
                  <a:ea typeface="微软雅黑"/>
                </a:rPr>
                <a:t>可衡量性原则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7" name="TextBox 15"/>
            <p:cNvSpPr/>
            <p:nvPr/>
          </p:nvSpPr>
          <p:spPr>
            <a:xfrm>
              <a:off x="3362400" y="2349000"/>
              <a:ext cx="704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79479"/>
                  </a:solidFill>
                  <a:latin typeface="Arial Unicode MS"/>
                  <a:ea typeface="Arial Unicode MS"/>
                </a:rPr>
                <a:t>01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8" name="TextBox 16"/>
            <p:cNvSpPr/>
            <p:nvPr/>
          </p:nvSpPr>
          <p:spPr>
            <a:xfrm>
              <a:off x="3362400" y="3355920"/>
              <a:ext cx="704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d44b"/>
                  </a:solidFill>
                  <a:latin typeface="Arial Unicode MS"/>
                  <a:ea typeface="Arial Unicode MS"/>
                </a:rPr>
                <a:t>02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9" name="TextBox 17"/>
            <p:cNvSpPr/>
            <p:nvPr/>
          </p:nvSpPr>
          <p:spPr>
            <a:xfrm>
              <a:off x="4582080" y="3703680"/>
              <a:ext cx="704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4fbae8"/>
                  </a:solidFill>
                  <a:latin typeface="Arial Unicode MS"/>
                  <a:ea typeface="Arial Unicode MS"/>
                </a:rPr>
                <a:t>03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0" name="TextBox 18"/>
            <p:cNvSpPr/>
            <p:nvPr/>
          </p:nvSpPr>
          <p:spPr>
            <a:xfrm>
              <a:off x="4582080" y="4712400"/>
              <a:ext cx="704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92d050"/>
                  </a:solidFill>
                  <a:latin typeface="Arial Unicode MS"/>
                  <a:ea typeface="Arial Unicode MS"/>
                </a:rPr>
                <a:t>04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护理质量标准制定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2" name="Group 2"/>
          <p:cNvGrpSpPr/>
          <p:nvPr/>
        </p:nvGrpSpPr>
        <p:grpSpPr>
          <a:xfrm>
            <a:off x="1187280" y="1773360"/>
            <a:ext cx="7003800" cy="4276080"/>
            <a:chOff x="1187280" y="1773360"/>
            <a:chExt cx="7003800" cy="4276080"/>
          </a:xfrm>
        </p:grpSpPr>
        <p:sp>
          <p:nvSpPr>
            <p:cNvPr id="303" name="矩形 24"/>
            <p:cNvSpPr/>
            <p:nvPr/>
          </p:nvSpPr>
          <p:spPr>
            <a:xfrm>
              <a:off x="1187280" y="2842560"/>
              <a:ext cx="3541680" cy="1067760"/>
            </a:xfrm>
            <a:prstGeom prst="rect">
              <a:avLst/>
            </a:prstGeom>
            <a:solidFill>
              <a:srgbClr val="fff3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216000" tIns="46800" bIns="46800" anchor="ctr">
              <a:norm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拟定标准，进行验证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4" name="矩形 26"/>
            <p:cNvSpPr/>
            <p:nvPr/>
          </p:nvSpPr>
          <p:spPr>
            <a:xfrm>
              <a:off x="4649400" y="1773360"/>
              <a:ext cx="3541680" cy="1069200"/>
            </a:xfrm>
            <a:prstGeom prst="rect">
              <a:avLst/>
            </a:prstGeom>
            <a:solidFill>
              <a:srgbClr val="f4fb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调查研究、收集资料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5" name="矩形 34"/>
            <p:cNvSpPr/>
            <p:nvPr/>
          </p:nvSpPr>
          <p:spPr>
            <a:xfrm>
              <a:off x="1187280" y="4981680"/>
              <a:ext cx="3541680" cy="1067760"/>
            </a:xfrm>
            <a:prstGeom prst="rect">
              <a:avLst/>
            </a:prstGeom>
            <a:solidFill>
              <a:srgbClr val="ece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216000" tIns="46800" bIns="46800" anchor="ctr">
              <a:norm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标准的修改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6" name="矩形 36"/>
            <p:cNvSpPr/>
            <p:nvPr/>
          </p:nvSpPr>
          <p:spPr>
            <a:xfrm>
              <a:off x="4649400" y="3913920"/>
              <a:ext cx="3541680" cy="1067760"/>
            </a:xfrm>
            <a:prstGeom prst="rect">
              <a:avLst/>
            </a:prstGeom>
            <a:solidFill>
              <a:srgbClr val="def6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审定、公布、实施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护理质量标准制定步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三节 护理质量管理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09" name="Group 3"/>
          <p:cNvGrpSpPr/>
          <p:nvPr/>
        </p:nvGrpSpPr>
        <p:grpSpPr>
          <a:xfrm>
            <a:off x="1620720" y="1773360"/>
            <a:ext cx="5545080" cy="4314240"/>
            <a:chOff x="1620720" y="1773360"/>
            <a:chExt cx="5545080" cy="4314240"/>
          </a:xfrm>
        </p:grpSpPr>
        <p:sp>
          <p:nvSpPr>
            <p:cNvPr id="310" name="任意多边形 11"/>
            <p:cNvSpPr/>
            <p:nvPr/>
          </p:nvSpPr>
          <p:spPr>
            <a:xfrm>
              <a:off x="2436480" y="1773360"/>
              <a:ext cx="4729320" cy="714600"/>
            </a:xfrm>
            <a:prstGeom prst="pie">
              <a:avLst/>
            </a:prstGeom>
            <a:solidFill>
              <a:srgbClr val="b3e2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0" rIns="0" tIns="0" bIns="0" anchor="ctr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PDCA </a:t>
              </a: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循环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1" name="KSO_GT1"/>
            <p:cNvSpPr/>
            <p:nvPr/>
          </p:nvSpPr>
          <p:spPr>
            <a:xfrm>
              <a:off x="1621080" y="1773360"/>
              <a:ext cx="928800" cy="7146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4ebb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4ebbc6"/>
                  </a:solidFill>
                  <a:latin typeface="Impact"/>
                  <a:ea typeface="微软雅黑"/>
                </a:rPr>
                <a:t>1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2" name="任意多边形 12"/>
            <p:cNvSpPr/>
            <p:nvPr/>
          </p:nvSpPr>
          <p:spPr>
            <a:xfrm>
              <a:off x="2436480" y="2662560"/>
              <a:ext cx="4729320" cy="714600"/>
            </a:xfrm>
            <a:prstGeom prst="pie">
              <a:avLst/>
            </a:prstGeom>
            <a:solidFill>
              <a:srgbClr val="ffca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0" rIns="0" tIns="0" bIns="0" anchor="ctr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6Sigma </a:t>
              </a: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管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3" name="KSO_GT1"/>
            <p:cNvSpPr/>
            <p:nvPr/>
          </p:nvSpPr>
          <p:spPr>
            <a:xfrm>
              <a:off x="1621080" y="2662560"/>
              <a:ext cx="928800" cy="7146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ff96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ff9684"/>
                  </a:solidFill>
                  <a:latin typeface="Impact"/>
                  <a:ea typeface="微软雅黑"/>
                </a:rPr>
                <a:t>2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4" name="任意多边形 14"/>
            <p:cNvSpPr/>
            <p:nvPr/>
          </p:nvSpPr>
          <p:spPr>
            <a:xfrm>
              <a:off x="2436480" y="3552120"/>
              <a:ext cx="4729320" cy="714600"/>
            </a:xfrm>
            <a:prstGeom prst="pie">
              <a:avLst/>
            </a:prstGeom>
            <a:solidFill>
              <a:srgbClr val="b3e2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0" rIns="0" tIns="0" bIns="0" anchor="ctr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临床路径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5" name="KSO_GT1"/>
            <p:cNvSpPr/>
            <p:nvPr/>
          </p:nvSpPr>
          <p:spPr>
            <a:xfrm>
              <a:off x="1621080" y="3552120"/>
              <a:ext cx="928800" cy="7146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4ebb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4ebbc6"/>
                  </a:solidFill>
                  <a:latin typeface="Impact"/>
                  <a:ea typeface="微软雅黑"/>
                </a:rPr>
                <a:t>3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6" name="任意多边形 8"/>
            <p:cNvSpPr/>
            <p:nvPr/>
          </p:nvSpPr>
          <p:spPr>
            <a:xfrm>
              <a:off x="2436480" y="4441680"/>
              <a:ext cx="4729320" cy="714600"/>
            </a:xfrm>
            <a:prstGeom prst="pie">
              <a:avLst/>
            </a:prstGeom>
            <a:solidFill>
              <a:srgbClr val="ffca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0" rIns="0" tIns="0" bIns="0" anchor="ctr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品管圈活动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7" name="KSO_GT1"/>
            <p:cNvSpPr/>
            <p:nvPr/>
          </p:nvSpPr>
          <p:spPr>
            <a:xfrm>
              <a:off x="1621080" y="4441680"/>
              <a:ext cx="928800" cy="7146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ff96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ff9684"/>
                  </a:solidFill>
                  <a:latin typeface="Impact"/>
                  <a:ea typeface="微软雅黑"/>
                </a:rPr>
                <a:t>4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8" name="任意多边形 11"/>
            <p:cNvSpPr/>
            <p:nvPr/>
          </p:nvSpPr>
          <p:spPr>
            <a:xfrm>
              <a:off x="2412360" y="5373000"/>
              <a:ext cx="4729320" cy="714600"/>
            </a:xfrm>
            <a:prstGeom prst="pie">
              <a:avLst/>
            </a:prstGeom>
            <a:solidFill>
              <a:srgbClr val="b3e2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0" rIns="0" tIns="0" bIns="0" anchor="ctr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JCI</a:t>
              </a: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认证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9" name="KSO_GT1"/>
            <p:cNvSpPr/>
            <p:nvPr/>
          </p:nvSpPr>
          <p:spPr>
            <a:xfrm>
              <a:off x="1620720" y="5373000"/>
              <a:ext cx="928800" cy="7146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4ebb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4000" spc="-1" strike="noStrike">
                  <a:solidFill>
                    <a:srgbClr val="4ebbc6"/>
                  </a:solidFill>
                  <a:latin typeface="Impact"/>
                  <a:ea typeface="微软雅黑"/>
                </a:rPr>
                <a:t>5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DCA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循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322" name="Group 4"/>
          <p:cNvGrpSpPr/>
          <p:nvPr/>
        </p:nvGrpSpPr>
        <p:grpSpPr>
          <a:xfrm>
            <a:off x="368640" y="1382400"/>
            <a:ext cx="7803360" cy="4925880"/>
            <a:chOff x="368640" y="1382400"/>
            <a:chExt cx="7803360" cy="4925880"/>
          </a:xfrm>
        </p:grpSpPr>
        <p:sp>
          <p:nvSpPr>
            <p:cNvPr id="323" name="圆角矩形 26"/>
            <p:cNvSpPr/>
            <p:nvPr/>
          </p:nvSpPr>
          <p:spPr>
            <a:xfrm>
              <a:off x="1655280" y="2865960"/>
              <a:ext cx="6516720" cy="3442320"/>
            </a:xfrm>
            <a:prstGeom prst="roundRect">
              <a:avLst>
                <a:gd name="adj" fmla="val 2185"/>
              </a:avLst>
            </a:prstGeom>
            <a:solidFill>
              <a:srgbClr val="f2d6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4" name="圆角矩形 27"/>
            <p:cNvSpPr/>
            <p:nvPr/>
          </p:nvSpPr>
          <p:spPr>
            <a:xfrm>
              <a:off x="2001240" y="3013200"/>
              <a:ext cx="5888520" cy="3065400"/>
            </a:xfrm>
            <a:prstGeom prst="roundRect">
              <a:avLst>
                <a:gd name="adj" fmla="val 2569"/>
              </a:avLst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5" name="圆角矩形 30"/>
            <p:cNvSpPr/>
            <p:nvPr/>
          </p:nvSpPr>
          <p:spPr>
            <a:xfrm>
              <a:off x="2128680" y="3078360"/>
              <a:ext cx="5658120" cy="2896920"/>
            </a:xfrm>
            <a:prstGeom prst="roundRect">
              <a:avLst>
                <a:gd name="adj" fmla="val 2199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180000" tIns="90000" bIns="90000" anchor="ctr">
              <a:normAutofit/>
            </a:bodyPr>
            <a:p>
              <a:pPr algn="just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46ca6"/>
                  </a:solidFill>
                  <a:latin typeface="黑体"/>
                  <a:ea typeface="黑体"/>
                </a:rPr>
                <a:t>  </a:t>
              </a: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又称戴明环，是</a:t>
              </a: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计划</a:t>
              </a: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(plan)</a:t>
              </a: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、执行</a:t>
              </a: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(do)</a:t>
              </a: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、检查</a:t>
              </a: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(check)</a:t>
              </a: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、处理</a:t>
              </a: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(action)</a:t>
              </a: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四个阶段的循环反复过程，是一种程序化、标准化、科学化的管理方式。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326" name="Group 8"/>
            <p:cNvGrpSpPr/>
            <p:nvPr/>
          </p:nvGrpSpPr>
          <p:grpSpPr>
            <a:xfrm>
              <a:off x="368640" y="1382400"/>
              <a:ext cx="3787560" cy="1507680"/>
              <a:chOff x="368640" y="1382400"/>
              <a:chExt cx="3787560" cy="1507680"/>
            </a:xfrm>
          </p:grpSpPr>
          <p:sp>
            <p:nvSpPr>
              <p:cNvPr id="327" name="任意多边形 23"/>
              <p:cNvSpPr/>
              <p:nvPr/>
            </p:nvSpPr>
            <p:spPr>
              <a:xfrm>
                <a:off x="1058400" y="2682000"/>
                <a:ext cx="837000" cy="208080"/>
              </a:xfrm>
              <a:custGeom>
                <a:avLst/>
                <a:gdLst/>
                <a:ahLst/>
                <a:rect l="l" t="t" r="r" b="b"/>
                <a:pathLst>
                  <a:path w="353060" h="126326">
                    <a:moveTo>
                      <a:pt x="132234" y="0"/>
                    </a:moveTo>
                    <a:lnTo>
                      <a:pt x="353060" y="126326"/>
                    </a:lnTo>
                    <a:lnTo>
                      <a:pt x="0" y="39204"/>
                    </a:lnTo>
                    <a:lnTo>
                      <a:pt x="132234" y="0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28" name="任意多边形 22"/>
              <p:cNvSpPr/>
              <p:nvPr/>
            </p:nvSpPr>
            <p:spPr>
              <a:xfrm>
                <a:off x="772560" y="2188800"/>
                <a:ext cx="648720" cy="559080"/>
              </a:xfrm>
              <a:custGeom>
                <a:avLst/>
                <a:gdLst/>
                <a:ahLst/>
                <a:rect l="l" t="t" r="r" b="b"/>
                <a:pathLst>
                  <a:path w="420624" h="585216">
                    <a:moveTo>
                      <a:pt x="0" y="54864"/>
                    </a:moveTo>
                    <a:lnTo>
                      <a:pt x="192024" y="585216"/>
                    </a:lnTo>
                    <a:lnTo>
                      <a:pt x="393192" y="521208"/>
                    </a:lnTo>
                    <a:lnTo>
                      <a:pt x="420624" y="0"/>
                    </a:lnTo>
                    <a:lnTo>
                      <a:pt x="0" y="54864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29" name="任意多边形 21"/>
              <p:cNvSpPr/>
              <p:nvPr/>
            </p:nvSpPr>
            <p:spPr>
              <a:xfrm>
                <a:off x="546480" y="1557360"/>
                <a:ext cx="3578040" cy="928800"/>
              </a:xfrm>
              <a:custGeom>
                <a:avLst/>
                <a:gdLst/>
                <a:ahLst/>
                <a:rect l="l" t="t" r="r" b="b"/>
                <a:pathLst>
                  <a:path w="4562856" h="1911096">
                    <a:moveTo>
                      <a:pt x="45720" y="475488"/>
                    </a:moveTo>
                    <a:lnTo>
                      <a:pt x="4562856" y="0"/>
                    </a:lnTo>
                    <a:lnTo>
                      <a:pt x="4178808" y="1417320"/>
                    </a:lnTo>
                    <a:lnTo>
                      <a:pt x="0" y="1911096"/>
                    </a:lnTo>
                    <a:lnTo>
                      <a:pt x="45720" y="47548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30" name="任意多边形 37"/>
              <p:cNvSpPr/>
              <p:nvPr/>
            </p:nvSpPr>
            <p:spPr>
              <a:xfrm rot="21180000">
                <a:off x="396720" y="1607040"/>
                <a:ext cx="3731400" cy="68976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46ca6"/>
                    </a:solidFill>
                    <a:latin typeface="微软雅黑"/>
                    <a:ea typeface="微软雅黑"/>
                  </a:rPr>
                  <a:t>PDCA</a:t>
                </a:r>
                <a:r>
                  <a:rPr b="1" lang="zh-CN" sz="3200" spc="-1" strike="noStrike">
                    <a:solidFill>
                      <a:srgbClr val="046ca6"/>
                    </a:solidFill>
                    <a:latin typeface="微软雅黑"/>
                    <a:ea typeface="微软雅黑"/>
                  </a:rPr>
                  <a:t>循环定义</a:t>
                </a:r>
                <a:endParaRPr b="0" lang="en-US" sz="32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DCA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循环的步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304920" y="1371240"/>
            <a:ext cx="8610480" cy="4876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33" name="Object 4"/>
          <p:cNvGraphicFramePr/>
          <p:nvPr/>
        </p:nvGraphicFramePr>
        <p:xfrm>
          <a:off x="1116000" y="1557360"/>
          <a:ext cx="6551640" cy="4608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34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16000" y="1557360"/>
                    <a:ext cx="6551640" cy="460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DCA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循环的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456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微软雅黑"/>
              </a:rPr>
              <a:t>完整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微软雅黑"/>
              </a:rPr>
              <a:t>统一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微软雅黑"/>
              </a:rPr>
              <a:t>连续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aphicFrame>
        <p:nvGraphicFramePr>
          <p:cNvPr id="337" name="Object 4"/>
          <p:cNvGraphicFramePr/>
          <p:nvPr/>
        </p:nvGraphicFramePr>
        <p:xfrm>
          <a:off x="4861080" y="1701720"/>
          <a:ext cx="3609720" cy="4295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61080" y="1701720"/>
                    <a:ext cx="3609720" cy="42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24000" y="1628640"/>
            <a:ext cx="8518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识记：准确描述质量、质量管理及护理质量管理的概念；简述护理质量管理的任务及原则；阐述六西格玛管理、临床路径及品管圈活动的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理解：解释质量观演变的四个历程及其特点；解释护理质量标准制定的原则及步骤；陈述护理评价指标及其内容；解释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DCA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循环步骤、六西格玛管理实施步骤、临床路径及品管圈活动实施步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运用：应用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DCA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循环理论制定护理质量改进方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PDCA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循环的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115640" y="1701720"/>
            <a:ext cx="217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微软雅黑"/>
              </a:rPr>
              <a:t>大环套小环，小环保，相互促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aphicFrame>
        <p:nvGraphicFramePr>
          <p:cNvPr id="341" name="Object 4"/>
          <p:cNvGraphicFramePr/>
          <p:nvPr/>
        </p:nvGraphicFramePr>
        <p:xfrm>
          <a:off x="4284720" y="1773360"/>
          <a:ext cx="4038480" cy="396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4720" y="1773360"/>
                    <a:ext cx="4038480" cy="396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PDCA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循环的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微软雅黑"/>
              </a:rPr>
              <a:t>递进性，不断循环。不断提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aphicFrame>
        <p:nvGraphicFramePr>
          <p:cNvPr id="345" name="Object 4"/>
          <p:cNvGraphicFramePr/>
          <p:nvPr/>
        </p:nvGraphicFramePr>
        <p:xfrm>
          <a:off x="3132000" y="2060640"/>
          <a:ext cx="5224680" cy="396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32000" y="2060640"/>
                    <a:ext cx="5224680" cy="396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6 Sigma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微软雅黑"/>
                <a:ea typeface="微软雅黑"/>
              </a:rPr>
              <a:t>6sigma</a:t>
            </a:r>
            <a:r>
              <a:rPr b="1" lang="zh-CN" sz="3200" spc="-1" strike="noStrike">
                <a:solidFill>
                  <a:srgbClr val="8ac8de"/>
                </a:solidFill>
                <a:latin typeface="微软雅黑"/>
                <a:ea typeface="微软雅黑"/>
              </a:rPr>
              <a:t>含义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sigma” 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（</a:t>
            </a:r>
            <a:r>
              <a:rPr b="1" lang="el-GR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σ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“标准差” 的符号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准差是指任意一组数据或流程中离散或差异程度的指标</a:t>
            </a: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--</a:t>
            </a:r>
            <a:r>
              <a:rPr b="1" lang="zh-CN" sz="2800" spc="-1" strike="noStrike">
                <a:solidFill>
                  <a:srgbClr val="ff9900"/>
                </a:solidFill>
                <a:latin typeface="微软雅黑"/>
                <a:ea typeface="微软雅黑"/>
              </a:rPr>
              <a:t>顾客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允许</a:t>
            </a:r>
            <a:r>
              <a:rPr b="1" lang="zh-CN" sz="2800" spc="-1" strike="noStrike">
                <a:solidFill>
                  <a:srgbClr val="ff9900"/>
                </a:solidFill>
                <a:latin typeface="微软雅黑"/>
                <a:ea typeface="微软雅黑"/>
              </a:rPr>
              <a:t>的质量特性的波动范围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微软雅黑"/>
                <a:ea typeface="微软雅黑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6</a:t>
            </a:r>
            <a:r>
              <a:rPr b="1" lang="el-GR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σ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即“ 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倍的标准差” ，每百万个产品其质量的不良率少于 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3.4% 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 </a:t>
            </a:r>
            <a:r>
              <a:rPr b="1" lang="zh-CN" sz="2800" spc="-1" strike="noStrike">
                <a:solidFill>
                  <a:srgbClr val="ff9900"/>
                </a:solidFill>
                <a:latin typeface="微软雅黑"/>
                <a:ea typeface="微软雅黑"/>
              </a:rPr>
              <a:t>合格率达 </a:t>
            </a:r>
            <a:r>
              <a:rPr b="1" lang="en-US" sz="2800" spc="-1" strike="noStrike">
                <a:solidFill>
                  <a:srgbClr val="ff9900"/>
                </a:solidFill>
                <a:latin typeface="微软雅黑"/>
                <a:ea typeface="微软雅黑"/>
              </a:rPr>
              <a:t>99.9997%</a:t>
            </a:r>
            <a:r>
              <a:rPr b="1" lang="zh-CN" sz="2800" spc="-1" strike="noStrike">
                <a:solidFill>
                  <a:srgbClr val="ff9900"/>
                </a:solidFill>
                <a:latin typeface="微软雅黑"/>
                <a:ea typeface="微软雅黑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00"/>
                </a:solidFill>
                <a:latin typeface="微软雅黑"/>
                <a:ea typeface="微软雅黑"/>
              </a:rPr>
              <a:t>6sigma</a:t>
            </a:r>
            <a:r>
              <a:rPr b="1" lang="zh-CN" sz="3200" spc="-1" strike="noStrike">
                <a:solidFill>
                  <a:srgbClr val="ff9900"/>
                </a:solidFill>
                <a:latin typeface="微软雅黑"/>
                <a:ea typeface="微软雅黑"/>
              </a:rPr>
              <a:t>管理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没有测量就没有管理，量出”缺陷“是改进缺陷的前提，围绕缺陷开展质量改进活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49" name="Picture 4" descr=""/>
          <p:cNvPicPr/>
          <p:nvPr/>
        </p:nvPicPr>
        <p:blipFill>
          <a:blip r:embed="rId1"/>
          <a:stretch/>
        </p:blipFill>
        <p:spPr>
          <a:xfrm>
            <a:off x="5940360" y="-19080"/>
            <a:ext cx="319572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0" name="Group 2"/>
          <p:cNvGrpSpPr/>
          <p:nvPr/>
        </p:nvGrpSpPr>
        <p:grpSpPr>
          <a:xfrm>
            <a:off x="612720" y="1484280"/>
            <a:ext cx="7775640" cy="4681080"/>
            <a:chOff x="612720" y="1484280"/>
            <a:chExt cx="7775640" cy="4681080"/>
          </a:xfrm>
        </p:grpSpPr>
        <p:sp>
          <p:nvSpPr>
            <p:cNvPr id="351" name="Rectangle 10"/>
            <p:cNvSpPr/>
            <p:nvPr/>
          </p:nvSpPr>
          <p:spPr>
            <a:xfrm>
              <a:off x="625320" y="2880720"/>
              <a:ext cx="650160" cy="607680"/>
            </a:xfrm>
            <a:prstGeom prst="rect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Berlin Sans FB"/>
                  <a:ea typeface="宋体"/>
                </a:rPr>
                <a:t>02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2" name="Line 11"/>
            <p:cNvSpPr/>
            <p:nvPr/>
          </p:nvSpPr>
          <p:spPr>
            <a:xfrm>
              <a:off x="1281960" y="2746080"/>
              <a:ext cx="0" cy="898920"/>
            </a:xfrm>
            <a:prstGeom prst="line">
              <a:avLst/>
            </a:prstGeom>
            <a:ln w="2844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3" name="Rectangle 13"/>
            <p:cNvSpPr/>
            <p:nvPr/>
          </p:nvSpPr>
          <p:spPr>
            <a:xfrm>
              <a:off x="614880" y="4164120"/>
              <a:ext cx="650160" cy="60984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Berlin Sans FB"/>
                  <a:ea typeface="宋体"/>
                </a:rPr>
                <a:t>03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4" name="Line 14"/>
            <p:cNvSpPr/>
            <p:nvPr/>
          </p:nvSpPr>
          <p:spPr>
            <a:xfrm>
              <a:off x="1271160" y="4030920"/>
              <a:ext cx="0" cy="898920"/>
            </a:xfrm>
            <a:prstGeom prst="line">
              <a:avLst/>
            </a:prstGeom>
            <a:ln w="2844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5" name="Rectangle 16"/>
            <p:cNvSpPr/>
            <p:nvPr/>
          </p:nvSpPr>
          <p:spPr>
            <a:xfrm>
              <a:off x="612720" y="5399640"/>
              <a:ext cx="649800" cy="60984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Berlin Sans FB"/>
                  <a:ea typeface="宋体"/>
                </a:rPr>
                <a:t>04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6" name="Line 17"/>
            <p:cNvSpPr/>
            <p:nvPr/>
          </p:nvSpPr>
          <p:spPr>
            <a:xfrm>
              <a:off x="1269360" y="5266440"/>
              <a:ext cx="0" cy="898920"/>
            </a:xfrm>
            <a:prstGeom prst="line">
              <a:avLst/>
            </a:prstGeom>
            <a:ln w="2844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7" name="Rectangle 19"/>
            <p:cNvSpPr/>
            <p:nvPr/>
          </p:nvSpPr>
          <p:spPr>
            <a:xfrm>
              <a:off x="627840" y="1625040"/>
              <a:ext cx="650160" cy="607320"/>
            </a:xfrm>
            <a:prstGeom prst="rect">
              <a:avLst/>
            </a:prstGeom>
            <a:solidFill>
              <a:srgbClr val="fa72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Berlin Sans FB"/>
                  <a:ea typeface="宋体"/>
                </a:rPr>
                <a:t>01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8" name="Line 20"/>
            <p:cNvSpPr/>
            <p:nvPr/>
          </p:nvSpPr>
          <p:spPr>
            <a:xfrm>
              <a:off x="1283760" y="1490400"/>
              <a:ext cx="0" cy="898920"/>
            </a:xfrm>
            <a:prstGeom prst="line">
              <a:avLst/>
            </a:prstGeom>
            <a:ln w="28440">
              <a:solidFill>
                <a:srgbClr val="fa72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9" name="Rectangle 21"/>
            <p:cNvSpPr/>
            <p:nvPr/>
          </p:nvSpPr>
          <p:spPr>
            <a:xfrm>
              <a:off x="1303200" y="1484280"/>
              <a:ext cx="6842520" cy="80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9900"/>
                  </a:solidFill>
                  <a:latin typeface="Arial"/>
                  <a:ea typeface="微软雅黑"/>
                </a:rPr>
                <a:t>定义：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确认患者需求，找出质量关键点</a:t>
              </a:r>
              <a:r>
                <a:rPr b="0" lang="zh-CN" sz="2800" spc="-1" strike="noStrike">
                  <a:solidFill>
                    <a:srgbClr val="ffff00"/>
                  </a:solidFill>
                  <a:latin typeface="Arial"/>
                  <a:ea typeface="微软雅黑"/>
                </a:rPr>
                <a:t>，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60" name="Rectangle 22"/>
            <p:cNvSpPr/>
            <p:nvPr/>
          </p:nvSpPr>
          <p:spPr>
            <a:xfrm>
              <a:off x="1303200" y="2743560"/>
              <a:ext cx="6842520" cy="80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92d050"/>
                  </a:solidFill>
                  <a:latin typeface="微软雅黑"/>
                  <a:ea typeface="微软雅黑"/>
                </a:rPr>
                <a:t>统计：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00"/>
                  </a:solidFill>
                  <a:latin typeface="微软雅黑"/>
                  <a:ea typeface="微软雅黑"/>
                </a:rPr>
                <a:t> </a:t>
              </a:r>
              <a:r>
                <a:rPr b="0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统计每月统计的工作量、 护理差错缺陷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61" name="Rectangle 23"/>
            <p:cNvSpPr/>
            <p:nvPr/>
          </p:nvSpPr>
          <p:spPr>
            <a:xfrm>
              <a:off x="1303200" y="4030920"/>
              <a:ext cx="6519240" cy="80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c000"/>
                  </a:solidFill>
                  <a:latin typeface="微软雅黑"/>
                  <a:ea typeface="微软雅黑"/>
                </a:rPr>
                <a:t>改进</a:t>
              </a:r>
              <a:r>
                <a:rPr b="0" lang="zh-CN" sz="2800" spc="-1" strike="noStrike">
                  <a:solidFill>
                    <a:srgbClr val="ff9900"/>
                  </a:solidFill>
                  <a:latin typeface="微软雅黑"/>
                  <a:ea typeface="微软雅黑"/>
                </a:rPr>
                <a:t>：</a:t>
              </a:r>
              <a:r>
                <a:rPr b="0" lang="zh-CN" sz="2800" spc="-1" strike="noStrike">
                  <a:solidFill>
                    <a:srgbClr val="ffff00"/>
                  </a:solidFill>
                  <a:latin typeface="微软雅黑"/>
                  <a:ea typeface="微软雅黑"/>
                </a:rPr>
                <a:t> 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分析后，找到根除和预防 缺陷发生的解决方案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62" name="Rectangle 24"/>
            <p:cNvSpPr/>
            <p:nvPr/>
          </p:nvSpPr>
          <p:spPr>
            <a:xfrm>
              <a:off x="1303200" y="5278680"/>
              <a:ext cx="7085160" cy="80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控制：</a:t>
              </a:r>
              <a:r>
                <a:rPr b="0" lang="zh-CN" sz="2800" spc="-1" strike="noStrike">
                  <a:solidFill>
                    <a:srgbClr val="ffff00"/>
                  </a:solidFill>
                  <a:latin typeface="微软雅黑"/>
                  <a:ea typeface="微软雅黑"/>
                </a:rPr>
                <a:t> 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通过系统和组织的修正</a:t>
              </a:r>
              <a:r>
                <a:rPr b="0" lang="zh-CN" sz="2800" spc="-1" strike="noStrike">
                  <a:solidFill>
                    <a:srgbClr val="3582a3"/>
                  </a:solidFill>
                  <a:latin typeface="微软雅黑"/>
                  <a:ea typeface="微软雅黑"/>
                </a:rPr>
                <a:t>使改进制度化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lIns="900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6 Sigma 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管理步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临床路径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(clinical pathway, CP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定义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针对特定病种或手术制订的临床诊断、治疗护理的规范性流程，起到规范专业行为、控制医疗服务差异、降低成本、保障质量的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2009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年，卫生部制定了呼吸内科、消化内科等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2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专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300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个病种的临床路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品管圈活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品管圈（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Quality Control Circle, QCC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就是由同一工作现场、工作性质相类似的基层人员，自动自发地进行品质管理活动，所组成的工作小组在自我和相互启发下，运用各种质量控制手法，对自己的工作现场不断进行改善的活动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四节 护理质量评价与持续改进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370" name="Group 4"/>
          <p:cNvGrpSpPr/>
          <p:nvPr/>
        </p:nvGrpSpPr>
        <p:grpSpPr>
          <a:xfrm>
            <a:off x="1622520" y="1773360"/>
            <a:ext cx="5398920" cy="3023640"/>
            <a:chOff x="1622520" y="1773360"/>
            <a:chExt cx="5398920" cy="3023640"/>
          </a:xfrm>
        </p:grpSpPr>
        <p:sp>
          <p:nvSpPr>
            <p:cNvPr id="371" name="任意多边形 11"/>
            <p:cNvSpPr/>
            <p:nvPr/>
          </p:nvSpPr>
          <p:spPr>
            <a:xfrm>
              <a:off x="2416320" y="1773360"/>
              <a:ext cx="4605120" cy="866520"/>
            </a:xfrm>
            <a:prstGeom prst="pie">
              <a:avLst/>
            </a:prstGeom>
            <a:solidFill>
              <a:srgbClr val="b3e2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0" rIns="0" tIns="0" bIns="0" anchor="ctr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护理质量评价内容及方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72" name="KSO_GT1"/>
            <p:cNvSpPr/>
            <p:nvPr/>
          </p:nvSpPr>
          <p:spPr>
            <a:xfrm>
              <a:off x="1622520" y="1773360"/>
              <a:ext cx="904320" cy="86652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4ebb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4ebbc6"/>
                  </a:solidFill>
                  <a:latin typeface="Impact"/>
                  <a:ea typeface="微软雅黑"/>
                </a:rPr>
                <a:t>1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73" name="任意多边形 12"/>
            <p:cNvSpPr/>
            <p:nvPr/>
          </p:nvSpPr>
          <p:spPr>
            <a:xfrm>
              <a:off x="2416320" y="2851920"/>
              <a:ext cx="4605120" cy="866520"/>
            </a:xfrm>
            <a:prstGeom prst="pie">
              <a:avLst/>
            </a:prstGeom>
            <a:solidFill>
              <a:srgbClr val="ffca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0" rIns="0" tIns="0" bIns="0" anchor="ctr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护理质量评价结果分析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74" name="KSO_GT1"/>
            <p:cNvSpPr/>
            <p:nvPr/>
          </p:nvSpPr>
          <p:spPr>
            <a:xfrm>
              <a:off x="1622520" y="2851920"/>
              <a:ext cx="904320" cy="86652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ff96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ff9684"/>
                  </a:solidFill>
                  <a:latin typeface="Impact"/>
                  <a:ea typeface="微软雅黑"/>
                </a:rPr>
                <a:t>2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75" name="任意多边形 14"/>
            <p:cNvSpPr/>
            <p:nvPr/>
          </p:nvSpPr>
          <p:spPr>
            <a:xfrm>
              <a:off x="2416320" y="3930480"/>
              <a:ext cx="4605120" cy="866520"/>
            </a:xfrm>
            <a:prstGeom prst="pie">
              <a:avLst/>
            </a:prstGeom>
            <a:solidFill>
              <a:srgbClr val="b3e2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0" rIns="0" tIns="0" bIns="0" anchor="ctr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不良事件申报管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76" name="KSO_GT1"/>
            <p:cNvSpPr/>
            <p:nvPr/>
          </p:nvSpPr>
          <p:spPr>
            <a:xfrm>
              <a:off x="1622520" y="3930480"/>
              <a:ext cx="904320" cy="86652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4ebb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4ebbc6"/>
                  </a:solidFill>
                  <a:latin typeface="Impact"/>
                  <a:ea typeface="微软雅黑"/>
                </a:rPr>
                <a:t>3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7" name="Group 2"/>
          <p:cNvGrpSpPr/>
          <p:nvPr/>
        </p:nvGrpSpPr>
        <p:grpSpPr>
          <a:xfrm>
            <a:off x="1116000" y="1341360"/>
            <a:ext cx="6803640" cy="4222440"/>
            <a:chOff x="1116000" y="1341360"/>
            <a:chExt cx="6803640" cy="4222440"/>
          </a:xfrm>
        </p:grpSpPr>
        <p:sp>
          <p:nvSpPr>
            <p:cNvPr id="378" name="燕尾形箭头 1"/>
            <p:cNvSpPr/>
            <p:nvPr/>
          </p:nvSpPr>
          <p:spPr>
            <a:xfrm rot="16200000">
              <a:off x="3791880" y="2672640"/>
              <a:ext cx="1564920" cy="1623600"/>
            </a:xfrm>
            <a:custGeom>
              <a:avLst/>
              <a:gdLst>
                <a:gd name="textAreaLeft" fmla="*/ 342720 w 1564920"/>
                <a:gd name="textAreaRight" fmla="*/ 1222200 w 1564920"/>
                <a:gd name="textAreaTop" fmla="*/ 324360 h 1623600"/>
                <a:gd name="textAreaBottom" fmla="*/ 1299240 h 1623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4319"/>
                  </a:moveTo>
                  <a:lnTo>
                    <a:pt x="13716" y="4319"/>
                  </a:lnTo>
                  <a:lnTo>
                    <a:pt x="13716" y="0"/>
                  </a:lnTo>
                  <a:lnTo>
                    <a:pt x="21600" y="10800"/>
                  </a:lnTo>
                  <a:lnTo>
                    <a:pt x="13716" y="21600"/>
                  </a:lnTo>
                  <a:lnTo>
                    <a:pt x="13716" y="17281"/>
                  </a:lnTo>
                  <a:lnTo>
                    <a:pt x="0" y="17281"/>
                  </a:lnTo>
                  <a:lnTo>
                    <a:pt x="4731" y="10800"/>
                  </a:lnTo>
                  <a:lnTo>
                    <a:pt x="0" y="4319"/>
                  </a:lnTo>
                  <a:close/>
                </a:path>
              </a:pathLst>
            </a:custGeom>
            <a:solidFill>
              <a:srgbClr val="fcd6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79" name="燕尾形箭头 4"/>
            <p:cNvSpPr/>
            <p:nvPr/>
          </p:nvSpPr>
          <p:spPr>
            <a:xfrm>
              <a:off x="5059080" y="3939840"/>
              <a:ext cx="1565280" cy="1623960"/>
            </a:xfrm>
            <a:custGeom>
              <a:avLst/>
              <a:gdLst>
                <a:gd name="textAreaLeft" fmla="*/ 342720 w 1565280"/>
                <a:gd name="textAreaRight" fmla="*/ 1222560 w 1565280"/>
                <a:gd name="textAreaTop" fmla="*/ 324720 h 1623960"/>
                <a:gd name="textAreaBottom" fmla="*/ 1299240 h 1623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4319"/>
                  </a:moveTo>
                  <a:lnTo>
                    <a:pt x="13716" y="4319"/>
                  </a:lnTo>
                  <a:lnTo>
                    <a:pt x="13716" y="0"/>
                  </a:lnTo>
                  <a:lnTo>
                    <a:pt x="21600" y="10800"/>
                  </a:lnTo>
                  <a:lnTo>
                    <a:pt x="13716" y="21600"/>
                  </a:lnTo>
                  <a:lnTo>
                    <a:pt x="13716" y="17281"/>
                  </a:lnTo>
                  <a:lnTo>
                    <a:pt x="0" y="17281"/>
                  </a:lnTo>
                  <a:lnTo>
                    <a:pt x="4731" y="10800"/>
                  </a:lnTo>
                  <a:lnTo>
                    <a:pt x="0" y="4319"/>
                  </a:lnTo>
                  <a:close/>
                </a:path>
              </a:pathLst>
            </a:custGeom>
            <a:solidFill>
              <a:srgbClr val="91c1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0" name="燕尾形箭头 5"/>
            <p:cNvSpPr/>
            <p:nvPr/>
          </p:nvSpPr>
          <p:spPr>
            <a:xfrm flipH="1">
              <a:off x="2519280" y="3939840"/>
              <a:ext cx="1565280" cy="1623960"/>
            </a:xfrm>
            <a:custGeom>
              <a:avLst/>
              <a:gdLst>
                <a:gd name="textAreaLeft" fmla="*/ 342720 w 1565280"/>
                <a:gd name="textAreaRight" fmla="*/ 1222560 w 1565280"/>
                <a:gd name="textAreaTop" fmla="*/ 324720 h 1623960"/>
                <a:gd name="textAreaBottom" fmla="*/ 1299240 h 1623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4319"/>
                  </a:moveTo>
                  <a:lnTo>
                    <a:pt x="13716" y="4319"/>
                  </a:lnTo>
                  <a:lnTo>
                    <a:pt x="13716" y="0"/>
                  </a:lnTo>
                  <a:lnTo>
                    <a:pt x="21600" y="10800"/>
                  </a:lnTo>
                  <a:lnTo>
                    <a:pt x="13716" y="21600"/>
                  </a:lnTo>
                  <a:lnTo>
                    <a:pt x="13716" y="17281"/>
                  </a:lnTo>
                  <a:lnTo>
                    <a:pt x="0" y="17281"/>
                  </a:lnTo>
                  <a:lnTo>
                    <a:pt x="4731" y="10800"/>
                  </a:lnTo>
                  <a:lnTo>
                    <a:pt x="0" y="4319"/>
                  </a:lnTo>
                  <a:close/>
                </a:path>
              </a:pathLst>
            </a:custGeom>
            <a:solidFill>
              <a:srgbClr val="f9a0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1" name="TextBox 7"/>
            <p:cNvSpPr/>
            <p:nvPr/>
          </p:nvSpPr>
          <p:spPr>
            <a:xfrm>
              <a:off x="3803400" y="4532400"/>
              <a:ext cx="1546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9900"/>
                  </a:solidFill>
                  <a:latin typeface="微软雅黑"/>
                  <a:ea typeface="微软雅黑"/>
                </a:rPr>
                <a:t>护理质量评价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2" name="TextBox 8"/>
            <p:cNvSpPr/>
            <p:nvPr/>
          </p:nvSpPr>
          <p:spPr>
            <a:xfrm>
              <a:off x="1116000" y="4149000"/>
              <a:ext cx="160128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幼圆"/>
                  <a:ea typeface="微软雅黑"/>
                </a:rPr>
                <a:t>要素质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幼圆"/>
                  <a:ea typeface="微软雅黑"/>
                </a:rPr>
                <a:t>量评价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3" name="TextBox 8"/>
            <p:cNvSpPr/>
            <p:nvPr/>
          </p:nvSpPr>
          <p:spPr>
            <a:xfrm>
              <a:off x="3924000" y="1341360"/>
              <a:ext cx="144000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幼圆"/>
                  <a:ea typeface="微软雅黑"/>
                </a:rPr>
                <a:t>环节质量评价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4" name="TextBox 8"/>
            <p:cNvSpPr/>
            <p:nvPr/>
          </p:nvSpPr>
          <p:spPr>
            <a:xfrm>
              <a:off x="6588360" y="4077000"/>
              <a:ext cx="133128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幼圆"/>
                  <a:ea typeface="微软雅黑"/>
                </a:rPr>
                <a:t>终末质量评价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护理质量评价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要素质量评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对构成护理服务要素质量各方面的评价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环境：安全、清洁、舒适、温度、湿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人员：数量、业务、技术水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器械、设备：齐全、功能完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规章制度和标准：是否齐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病房结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护理文件书写是否完整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要素质量评价的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现场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考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问卷调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查阅资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学习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63" name="Group 4"/>
          <p:cNvGrpSpPr/>
          <p:nvPr/>
        </p:nvGrpSpPr>
        <p:grpSpPr>
          <a:xfrm>
            <a:off x="1403280" y="1773360"/>
            <a:ext cx="5113080" cy="3887640"/>
            <a:chOff x="1403280" y="1773360"/>
            <a:chExt cx="5113080" cy="3887640"/>
          </a:xfrm>
        </p:grpSpPr>
        <p:sp>
          <p:nvSpPr>
            <p:cNvPr id="164" name="任意多边形 11"/>
            <p:cNvSpPr/>
            <p:nvPr/>
          </p:nvSpPr>
          <p:spPr>
            <a:xfrm>
              <a:off x="2154960" y="1773360"/>
              <a:ext cx="4361400" cy="821520"/>
            </a:xfrm>
            <a:prstGeom prst="pie">
              <a:avLst/>
            </a:prstGeom>
            <a:solidFill>
              <a:srgbClr val="b3e2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0" rIns="0" tIns="0" bIns="0" anchor="ctr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微软雅黑"/>
                  <a:ea typeface="微软雅黑"/>
                </a:rPr>
                <a:t>质量管理概述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5" name="KSO_GT1"/>
            <p:cNvSpPr/>
            <p:nvPr/>
          </p:nvSpPr>
          <p:spPr>
            <a:xfrm>
              <a:off x="1403280" y="1773360"/>
              <a:ext cx="856800" cy="82152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4ebb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4ebbc6"/>
                  </a:solidFill>
                  <a:latin typeface="Impact"/>
                  <a:ea typeface="微软雅黑"/>
                </a:rPr>
                <a:t>1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6" name="任意多边形 12"/>
            <p:cNvSpPr/>
            <p:nvPr/>
          </p:nvSpPr>
          <p:spPr>
            <a:xfrm>
              <a:off x="2154960" y="2795400"/>
              <a:ext cx="4361400" cy="821520"/>
            </a:xfrm>
            <a:prstGeom prst="pie">
              <a:avLst/>
            </a:prstGeom>
            <a:solidFill>
              <a:srgbClr val="ffca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0" rIns="0" tIns="0" bIns="0" anchor="ctr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微软雅黑"/>
                  <a:ea typeface="微软雅黑"/>
                </a:rPr>
                <a:t>护理质量管理概述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7" name="KSO_GT1"/>
            <p:cNvSpPr/>
            <p:nvPr/>
          </p:nvSpPr>
          <p:spPr>
            <a:xfrm>
              <a:off x="1403280" y="2795400"/>
              <a:ext cx="856800" cy="82152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ff96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ff9684"/>
                  </a:solidFill>
                  <a:latin typeface="Impact"/>
                  <a:ea typeface="微软雅黑"/>
                </a:rPr>
                <a:t>2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8" name="任意多边形 14"/>
            <p:cNvSpPr/>
            <p:nvPr/>
          </p:nvSpPr>
          <p:spPr>
            <a:xfrm>
              <a:off x="2154960" y="3817080"/>
              <a:ext cx="4361400" cy="821520"/>
            </a:xfrm>
            <a:prstGeom prst="pie">
              <a:avLst/>
            </a:prstGeom>
            <a:solidFill>
              <a:srgbClr val="b3e2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0" rIns="0" tIns="0" bIns="0" anchor="ctr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微软雅黑"/>
                  <a:ea typeface="微软雅黑"/>
                </a:rPr>
                <a:t>护理质量管理方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9" name="KSO_GT1"/>
            <p:cNvSpPr/>
            <p:nvPr/>
          </p:nvSpPr>
          <p:spPr>
            <a:xfrm>
              <a:off x="1403280" y="3817080"/>
              <a:ext cx="856800" cy="82152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4ebb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4ebbc6"/>
                  </a:solidFill>
                  <a:latin typeface="Impact"/>
                  <a:ea typeface="微软雅黑"/>
                </a:rPr>
                <a:t>3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0" name="任意多边形 8"/>
            <p:cNvSpPr/>
            <p:nvPr/>
          </p:nvSpPr>
          <p:spPr>
            <a:xfrm>
              <a:off x="2154960" y="4839480"/>
              <a:ext cx="4361400" cy="821520"/>
            </a:xfrm>
            <a:prstGeom prst="pie">
              <a:avLst/>
            </a:prstGeom>
            <a:solidFill>
              <a:srgbClr val="ffca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0" rIns="0" tIns="0" bIns="0" anchor="ctr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微软雅黑"/>
                  <a:ea typeface="微软雅黑"/>
                </a:rPr>
                <a:t>护理质量评价与持续改进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1" name="KSO_GT1"/>
            <p:cNvSpPr/>
            <p:nvPr/>
          </p:nvSpPr>
          <p:spPr>
            <a:xfrm>
              <a:off x="1403280" y="4839480"/>
              <a:ext cx="856800" cy="82152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ff96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ff9684"/>
                  </a:solidFill>
                  <a:latin typeface="Impact"/>
                  <a:ea typeface="微软雅黑"/>
                </a:rPr>
                <a:t>4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环节质量评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对护理过程的评价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执行医嘱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病情观察及治疗结果反应观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患者管理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各种文书书写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应用护理程序步骤和技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心理护理、健康教育开展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环节质量评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评价方法：现场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评价方式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aphicFrame>
        <p:nvGraphicFramePr>
          <p:cNvPr id="394" name="Object 4"/>
          <p:cNvGraphicFramePr/>
          <p:nvPr/>
        </p:nvGraphicFramePr>
        <p:xfrm>
          <a:off x="755640" y="2852640"/>
          <a:ext cx="6934320" cy="333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2852640"/>
                    <a:ext cx="6934320" cy="333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终末质量评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终末评价是对护理服务最终结果的评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例如：患者压疮发生率、事故发生次数、静脉穿刺成功率、满意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评价方法：问卷调查、护理查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8" name="Group 2"/>
          <p:cNvGrpSpPr/>
          <p:nvPr/>
        </p:nvGrpSpPr>
        <p:grpSpPr>
          <a:xfrm>
            <a:off x="286560" y="937800"/>
            <a:ext cx="8833320" cy="4723920"/>
            <a:chOff x="286560" y="937800"/>
            <a:chExt cx="8833320" cy="4723920"/>
          </a:xfrm>
        </p:grpSpPr>
        <p:sp>
          <p:nvSpPr>
            <p:cNvPr id="399" name="圆角矩形 27"/>
            <p:cNvSpPr/>
            <p:nvPr/>
          </p:nvSpPr>
          <p:spPr>
            <a:xfrm rot="972000">
              <a:off x="2700000" y="2924280"/>
              <a:ext cx="1182600" cy="2439720"/>
            </a:xfrm>
            <a:custGeom>
              <a:avLst/>
              <a:gdLst>
                <a:gd name="textAreaLeft" fmla="*/ 57600 w 1182600"/>
                <a:gd name="textAreaRight" fmla="*/ 1125000 w 1182600"/>
                <a:gd name="textAreaTop" fmla="*/ 57600 h 2439720"/>
                <a:gd name="textAreaBottom" fmla="*/ 2382120 h 2439720"/>
              </a:gdLst>
              <a:ahLst/>
              <a:rect l="textAreaLeft" t="textAreaTop" r="textAreaRight" b="textAreaBottom"/>
              <a:pathLst>
                <a:path w="21600" h="44554">
                  <a:moveTo>
                    <a:pt x="3600" y="0"/>
                  </a:moveTo>
                  <a:arcTo wR="3600" hR="3600" stAng="16200000" swAng="-5400000"/>
                  <a:lnTo>
                    <a:pt x="0" y="40954"/>
                  </a:lnTo>
                  <a:arcTo wR="3600" hR="3600" stAng="10800000" swAng="-5400000"/>
                  <a:lnTo>
                    <a:pt x="18000" y="445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0000" bIns="0" anchor="t">
              <a:normAutofit/>
            </a:bodyPr>
            <a:p>
              <a:pPr algn="ctr"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Raavi"/>
                  <a:ea typeface="微软雅黑"/>
                </a:rPr>
                <a:t>02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0" name="圆角矩形 28"/>
            <p:cNvSpPr/>
            <p:nvPr/>
          </p:nvSpPr>
          <p:spPr>
            <a:xfrm rot="972000">
              <a:off x="2650320" y="3612600"/>
              <a:ext cx="1022040" cy="1616040"/>
            </a:xfrm>
            <a:custGeom>
              <a:avLst/>
              <a:gdLst>
                <a:gd name="textAreaLeft" fmla="*/ 49680 w 1022040"/>
                <a:gd name="textAreaRight" fmla="*/ 972360 w 1022040"/>
                <a:gd name="textAreaTop" fmla="*/ 49680 h 1616040"/>
                <a:gd name="textAreaBottom" fmla="*/ 1566360 h 1616040"/>
              </a:gdLst>
              <a:ahLst/>
              <a:rect l="textAreaLeft" t="textAreaTop" r="textAreaRight" b="textAreaBottom"/>
              <a:pathLst>
                <a:path w="21600" h="34149">
                  <a:moveTo>
                    <a:pt x="3600" y="0"/>
                  </a:moveTo>
                  <a:arcTo wR="3600" hR="3600" stAng="16200000" swAng="-5400000"/>
                  <a:lnTo>
                    <a:pt x="0" y="30549"/>
                  </a:lnTo>
                  <a:arcTo wR="3600" hR="3600" stAng="10800000" swAng="-5400000"/>
                  <a:lnTo>
                    <a:pt x="18000" y="3414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e8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6800" rIns="46800" tIns="108000" bIns="46800" anchor="t">
              <a:normAutofit/>
            </a:bodyPr>
            <a:p>
              <a:pPr algn="just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因果图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1" name="弧形 3"/>
            <p:cNvSpPr/>
            <p:nvPr/>
          </p:nvSpPr>
          <p:spPr>
            <a:xfrm rot="19692600">
              <a:off x="431640" y="2412360"/>
              <a:ext cx="1933560" cy="1101600"/>
            </a:xfrm>
            <a:custGeom>
              <a:avLst/>
              <a:gdLst/>
              <a:ahLst/>
              <a:rect l="l" t="t" r="r" b="b"/>
              <a:pathLst>
                <a:path stroke="0" w="1933575" h="1101725">
                  <a:moveTo>
                    <a:pt x="1000971" y="344"/>
                  </a:moveTo>
                  <a:cubicBezTo>
                    <a:pt x="1521284" y="10833"/>
                    <a:pt x="1933576" y="254210"/>
                    <a:pt x="1933576" y="550863"/>
                  </a:cubicBezTo>
                  <a:lnTo>
                    <a:pt x="966788" y="550863"/>
                  </a:lnTo>
                  <a:lnTo>
                    <a:pt x="1000971" y="344"/>
                  </a:lnTo>
                  <a:close/>
                </a:path>
                <a:path fill="none" w="1933575" h="1101725">
                  <a:moveTo>
                    <a:pt x="1000971" y="344"/>
                  </a:moveTo>
                  <a:cubicBezTo>
                    <a:pt x="1521284" y="10833"/>
                    <a:pt x="1933576" y="254210"/>
                    <a:pt x="1933576" y="550863"/>
                  </a:cubicBezTo>
                </a:path>
              </a:pathLst>
            </a:custGeom>
            <a:noFill/>
            <a:ln w="2844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2" name="圆角矩形 21"/>
            <p:cNvSpPr/>
            <p:nvPr/>
          </p:nvSpPr>
          <p:spPr>
            <a:xfrm rot="1735200">
              <a:off x="1483920" y="2373120"/>
              <a:ext cx="1182240" cy="2439720"/>
            </a:xfrm>
            <a:custGeom>
              <a:avLst/>
              <a:gdLst>
                <a:gd name="textAreaLeft" fmla="*/ 57600 w 1182240"/>
                <a:gd name="textAreaRight" fmla="*/ 1124640 w 1182240"/>
                <a:gd name="textAreaTop" fmla="*/ 57600 h 2439720"/>
                <a:gd name="textAreaBottom" fmla="*/ 2382120 h 2439720"/>
              </a:gdLst>
              <a:ahLst/>
              <a:rect l="textAreaLeft" t="textAreaTop" r="textAreaRight" b="textAreaBottom"/>
              <a:pathLst>
                <a:path w="21600" h="44568">
                  <a:moveTo>
                    <a:pt x="3600" y="0"/>
                  </a:moveTo>
                  <a:arcTo wR="3600" hR="3600" stAng="16200000" swAng="-5400000"/>
                  <a:lnTo>
                    <a:pt x="0" y="40968"/>
                  </a:lnTo>
                  <a:arcTo wR="3600" hR="3600" stAng="10800000" swAng="-5400000"/>
                  <a:lnTo>
                    <a:pt x="18000" y="4456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0000" bIns="0" anchor="t">
              <a:normAutofit/>
            </a:bodyPr>
            <a:p>
              <a:pPr algn="ctr"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Raavi"/>
                  <a:ea typeface="微软雅黑"/>
                </a:rPr>
                <a:t>01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3" name="圆角矩形 25"/>
            <p:cNvSpPr/>
            <p:nvPr/>
          </p:nvSpPr>
          <p:spPr>
            <a:xfrm rot="1735200">
              <a:off x="1428120" y="3041640"/>
              <a:ext cx="1022040" cy="1616040"/>
            </a:xfrm>
            <a:custGeom>
              <a:avLst/>
              <a:gdLst>
                <a:gd name="textAreaLeft" fmla="*/ 49680 w 1022040"/>
                <a:gd name="textAreaRight" fmla="*/ 972360 w 1022040"/>
                <a:gd name="textAreaTop" fmla="*/ 49680 h 1616040"/>
                <a:gd name="textAreaBottom" fmla="*/ 1566360 h 1616040"/>
              </a:gdLst>
              <a:ahLst/>
              <a:rect l="textAreaLeft" t="textAreaTop" r="textAreaRight" b="textAreaBottom"/>
              <a:pathLst>
                <a:path w="21600" h="34149">
                  <a:moveTo>
                    <a:pt x="3600" y="0"/>
                  </a:moveTo>
                  <a:arcTo wR="3600" hR="3600" stAng="16200000" swAng="-5400000"/>
                  <a:lnTo>
                    <a:pt x="0" y="30549"/>
                  </a:lnTo>
                  <a:arcTo wR="3600" hR="3600" stAng="10800000" swAng="-5400000"/>
                  <a:lnTo>
                    <a:pt x="18000" y="3414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e8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6800" rIns="46800" tIns="108000" bIns="46800" anchor="t">
              <a:normAutofit/>
            </a:bodyPr>
            <a:p>
              <a:pPr algn="just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调查表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4" name="椭圆 4"/>
            <p:cNvSpPr/>
            <p:nvPr/>
          </p:nvSpPr>
          <p:spPr>
            <a:xfrm rot="21573000">
              <a:off x="2154960" y="2376720"/>
              <a:ext cx="139680" cy="139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5" name="弧形 35"/>
            <p:cNvSpPr/>
            <p:nvPr/>
          </p:nvSpPr>
          <p:spPr>
            <a:xfrm rot="21573000">
              <a:off x="1156680" y="1920960"/>
              <a:ext cx="1061640" cy="550800"/>
            </a:xfrm>
            <a:custGeom>
              <a:avLst/>
              <a:gdLst/>
              <a:ahLst/>
              <a:rect l="l" t="t" r="r" b="b"/>
              <a:pathLst>
                <a:path stroke="0" w="1442020" h="661277">
                  <a:moveTo>
                    <a:pt x="41060" y="0"/>
                  </a:moveTo>
                  <a:cubicBezTo>
                    <a:pt x="819686" y="10213"/>
                    <a:pt x="1439354" y="303264"/>
                    <a:pt x="1439354" y="661277"/>
                  </a:cubicBezTo>
                  <a:lnTo>
                    <a:pt x="0" y="661277"/>
                  </a:lnTo>
                  <a:lnTo>
                    <a:pt x="41060" y="0"/>
                  </a:lnTo>
                  <a:close/>
                </a:path>
                <a:path fill="none" w="1442020" h="661277">
                  <a:moveTo>
                    <a:pt x="41060" y="526473"/>
                  </a:moveTo>
                  <a:cubicBezTo>
                    <a:pt x="1567831" y="772213"/>
                    <a:pt x="1439354" y="303264"/>
                    <a:pt x="1439354" y="661277"/>
                  </a:cubicBezTo>
                </a:path>
              </a:pathLst>
            </a:custGeom>
            <a:noFill/>
            <a:ln w="2844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6" name="圆角矩形 19"/>
            <p:cNvSpPr/>
            <p:nvPr/>
          </p:nvSpPr>
          <p:spPr>
            <a:xfrm rot="310200">
              <a:off x="3936240" y="3173760"/>
              <a:ext cx="1182600" cy="2439720"/>
            </a:xfrm>
            <a:custGeom>
              <a:avLst/>
              <a:gdLst>
                <a:gd name="textAreaLeft" fmla="*/ 57600 w 1182600"/>
                <a:gd name="textAreaRight" fmla="*/ 1125000 w 1182600"/>
                <a:gd name="textAreaTop" fmla="*/ 57600 h 2439720"/>
                <a:gd name="textAreaBottom" fmla="*/ 2382120 h 2439720"/>
              </a:gdLst>
              <a:ahLst/>
              <a:rect l="textAreaLeft" t="textAreaTop" r="textAreaRight" b="textAreaBottom"/>
              <a:pathLst>
                <a:path w="21600" h="44554">
                  <a:moveTo>
                    <a:pt x="3600" y="0"/>
                  </a:moveTo>
                  <a:arcTo wR="3600" hR="3600" stAng="16200000" swAng="-5400000"/>
                  <a:lnTo>
                    <a:pt x="0" y="40954"/>
                  </a:lnTo>
                  <a:arcTo wR="3600" hR="3600" stAng="10800000" swAng="-5400000"/>
                  <a:lnTo>
                    <a:pt x="18000" y="445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81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0000" bIns="0" anchor="t">
              <a:normAutofit/>
            </a:bodyPr>
            <a:p>
              <a:pPr algn="ctr"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Raavi"/>
                  <a:ea typeface="微软雅黑"/>
                </a:rPr>
                <a:t>03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7" name="圆角矩形 20"/>
            <p:cNvSpPr/>
            <p:nvPr/>
          </p:nvSpPr>
          <p:spPr>
            <a:xfrm rot="310200">
              <a:off x="3997080" y="3860280"/>
              <a:ext cx="1022040" cy="1614600"/>
            </a:xfrm>
            <a:custGeom>
              <a:avLst/>
              <a:gdLst>
                <a:gd name="textAreaLeft" fmla="*/ 49680 w 1022040"/>
                <a:gd name="textAreaRight" fmla="*/ 972360 w 1022040"/>
                <a:gd name="textAreaTop" fmla="*/ 49680 h 1614600"/>
                <a:gd name="textAreaBottom" fmla="*/ 1564920 h 1614600"/>
              </a:gdLst>
              <a:ahLst/>
              <a:rect l="textAreaLeft" t="textAreaTop" r="textAreaRight" b="textAreaBottom"/>
              <a:pathLst>
                <a:path w="21600" h="34119">
                  <a:moveTo>
                    <a:pt x="3600" y="0"/>
                  </a:moveTo>
                  <a:arcTo wR="3600" hR="3600" stAng="16200000" swAng="-5400000"/>
                  <a:lnTo>
                    <a:pt x="0" y="30519"/>
                  </a:lnTo>
                  <a:arcTo wR="3600" hR="3600" stAng="10800000" swAng="-5400000"/>
                  <a:lnTo>
                    <a:pt x="18000" y="3411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e8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6800" rIns="46800" tIns="108000" bIns="46800" anchor="t">
              <a:normAutofit/>
            </a:bodyPr>
            <a:p>
              <a:pPr algn="just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排列图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 algn="just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8" name="圆角矩形 23"/>
            <p:cNvSpPr/>
            <p:nvPr/>
          </p:nvSpPr>
          <p:spPr>
            <a:xfrm rot="20865000">
              <a:off x="5317560" y="3108240"/>
              <a:ext cx="1182600" cy="2440080"/>
            </a:xfrm>
            <a:custGeom>
              <a:avLst/>
              <a:gdLst>
                <a:gd name="textAreaLeft" fmla="*/ 57600 w 1182600"/>
                <a:gd name="textAreaRight" fmla="*/ 1125000 w 1182600"/>
                <a:gd name="textAreaTop" fmla="*/ 57600 h 2440080"/>
                <a:gd name="textAreaBottom" fmla="*/ 2382480 h 2440080"/>
              </a:gdLst>
              <a:ahLst/>
              <a:rect l="textAreaLeft" t="textAreaTop" r="textAreaRight" b="textAreaBottom"/>
              <a:pathLst>
                <a:path w="21600" h="44561">
                  <a:moveTo>
                    <a:pt x="3600" y="0"/>
                  </a:moveTo>
                  <a:arcTo wR="3600" hR="3600" stAng="16200000" swAng="-5400000"/>
                  <a:lnTo>
                    <a:pt x="0" y="40961"/>
                  </a:lnTo>
                  <a:arcTo wR="3600" hR="3600" stAng="10800000" swAng="-5400000"/>
                  <a:lnTo>
                    <a:pt x="18000" y="4456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0000" bIns="0" anchor="t">
              <a:normAutofit/>
            </a:bodyPr>
            <a:p>
              <a:pPr algn="ctr"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Raavi"/>
                  <a:ea typeface="微软雅黑"/>
                </a:rPr>
                <a:t>04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9" name="圆角矩形 24"/>
            <p:cNvSpPr/>
            <p:nvPr/>
          </p:nvSpPr>
          <p:spPr>
            <a:xfrm rot="20865000">
              <a:off x="5449320" y="3805560"/>
              <a:ext cx="1023480" cy="1616040"/>
            </a:xfrm>
            <a:custGeom>
              <a:avLst/>
              <a:gdLst>
                <a:gd name="textAreaLeft" fmla="*/ 49680 w 1023480"/>
                <a:gd name="textAreaRight" fmla="*/ 973800 w 1023480"/>
                <a:gd name="textAreaTop" fmla="*/ 49680 h 1616040"/>
                <a:gd name="textAreaBottom" fmla="*/ 1566360 h 1616040"/>
              </a:gdLst>
              <a:ahLst/>
              <a:rect l="textAreaLeft" t="textAreaTop" r="textAreaRight" b="textAreaBottom"/>
              <a:pathLst>
                <a:path w="21600" h="34101">
                  <a:moveTo>
                    <a:pt x="3600" y="0"/>
                  </a:moveTo>
                  <a:arcTo wR="3600" hR="3600" stAng="16200000" swAng="-5400000"/>
                  <a:lnTo>
                    <a:pt x="0" y="30501"/>
                  </a:lnTo>
                  <a:arcTo wR="3600" hR="3600" stAng="10800000" swAng="-5400000"/>
                  <a:lnTo>
                    <a:pt x="18000" y="3410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e8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6800" rIns="46800" tIns="108000" bIns="46800" anchor="t">
              <a:normAutofit/>
            </a:bodyPr>
            <a:p>
              <a:pPr algn="just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直方图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  <a:p>
              <a:pPr algn="just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0" name="弧形 41"/>
            <p:cNvSpPr/>
            <p:nvPr/>
          </p:nvSpPr>
          <p:spPr>
            <a:xfrm flipH="1" flipV="1" rot="19609800">
              <a:off x="6872040" y="1424520"/>
              <a:ext cx="2114280" cy="1117440"/>
            </a:xfrm>
            <a:custGeom>
              <a:avLst/>
              <a:gdLst/>
              <a:ahLst/>
              <a:rect l="l" t="t" r="r" b="b"/>
              <a:pathLst>
                <a:path stroke="0" w="2114550" h="1117600">
                  <a:moveTo>
                    <a:pt x="1091954" y="301"/>
                  </a:moveTo>
                  <a:cubicBezTo>
                    <a:pt x="1662064" y="10190"/>
                    <a:pt x="2114550" y="257319"/>
                    <a:pt x="2114550" y="558800"/>
                  </a:cubicBezTo>
                  <a:lnTo>
                    <a:pt x="1057275" y="558800"/>
                  </a:lnTo>
                  <a:lnTo>
                    <a:pt x="1091954" y="301"/>
                  </a:lnTo>
                  <a:close/>
                </a:path>
                <a:path fill="none" w="2114550" h="1117600">
                  <a:moveTo>
                    <a:pt x="1091954" y="301"/>
                  </a:moveTo>
                  <a:cubicBezTo>
                    <a:pt x="1662064" y="10190"/>
                    <a:pt x="2114550" y="257319"/>
                    <a:pt x="2114550" y="558800"/>
                  </a:cubicBezTo>
                </a:path>
              </a:pathLst>
            </a:custGeom>
            <a:noFill/>
            <a:ln w="2844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1" name="圆角矩形 38"/>
            <p:cNvSpPr/>
            <p:nvPr/>
          </p:nvSpPr>
          <p:spPr>
            <a:xfrm rot="19960200">
              <a:off x="6498720" y="2481120"/>
              <a:ext cx="1182600" cy="2439720"/>
            </a:xfrm>
            <a:custGeom>
              <a:avLst/>
              <a:gdLst>
                <a:gd name="textAreaLeft" fmla="*/ 57600 w 1182600"/>
                <a:gd name="textAreaRight" fmla="*/ 1125000 w 1182600"/>
                <a:gd name="textAreaTop" fmla="*/ 57600 h 2439720"/>
                <a:gd name="textAreaBottom" fmla="*/ 2382120 h 2439720"/>
              </a:gdLst>
              <a:ahLst/>
              <a:rect l="textAreaLeft" t="textAreaTop" r="textAreaRight" b="textAreaBottom"/>
              <a:pathLst>
                <a:path w="21600" h="44554">
                  <a:moveTo>
                    <a:pt x="3600" y="0"/>
                  </a:moveTo>
                  <a:arcTo wR="3600" hR="3600" stAng="16200000" swAng="-5400000"/>
                  <a:lnTo>
                    <a:pt x="0" y="40954"/>
                  </a:lnTo>
                  <a:arcTo wR="3600" hR="3600" stAng="10800000" swAng="-5400000"/>
                  <a:lnTo>
                    <a:pt x="18000" y="445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0000" bIns="0" anchor="t">
              <a:normAutofit/>
            </a:bodyPr>
            <a:p>
              <a:pPr algn="ctr"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Raavi"/>
                  <a:ea typeface="微软雅黑"/>
                </a:rPr>
                <a:t>05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2" name="圆角矩形 39"/>
            <p:cNvSpPr/>
            <p:nvPr/>
          </p:nvSpPr>
          <p:spPr>
            <a:xfrm rot="19960200">
              <a:off x="6716160" y="3147840"/>
              <a:ext cx="1023480" cy="1616040"/>
            </a:xfrm>
            <a:custGeom>
              <a:avLst/>
              <a:gdLst>
                <a:gd name="textAreaLeft" fmla="*/ 49680 w 1023480"/>
                <a:gd name="textAreaRight" fmla="*/ 973800 w 1023480"/>
                <a:gd name="textAreaTop" fmla="*/ 49680 h 1616040"/>
                <a:gd name="textAreaBottom" fmla="*/ 1566360 h 1616040"/>
              </a:gdLst>
              <a:ahLst/>
              <a:rect l="textAreaLeft" t="textAreaTop" r="textAreaRight" b="textAreaBottom"/>
              <a:pathLst>
                <a:path w="21600" h="34101">
                  <a:moveTo>
                    <a:pt x="3600" y="0"/>
                  </a:moveTo>
                  <a:arcTo wR="3600" hR="3600" stAng="16200000" swAng="-5400000"/>
                  <a:lnTo>
                    <a:pt x="0" y="30501"/>
                  </a:lnTo>
                  <a:arcTo wR="3600" hR="3600" stAng="10800000" swAng="-5400000"/>
                  <a:lnTo>
                    <a:pt x="18000" y="3410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e8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6800" rIns="46800" tIns="108000" bIns="46800" anchor="t">
              <a:normAutofit/>
            </a:bodyPr>
            <a:p>
              <a:pPr algn="just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控制图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3" name="椭圆 42"/>
            <p:cNvSpPr/>
            <p:nvPr/>
          </p:nvSpPr>
          <p:spPr>
            <a:xfrm rot="523800">
              <a:off x="6903720" y="2482920"/>
              <a:ext cx="139320" cy="138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4" name="弧形 35"/>
            <p:cNvSpPr/>
            <p:nvPr/>
          </p:nvSpPr>
          <p:spPr>
            <a:xfrm flipH="1" rot="524400">
              <a:off x="7024680" y="2103840"/>
              <a:ext cx="1123560" cy="561600"/>
            </a:xfrm>
            <a:custGeom>
              <a:avLst/>
              <a:gdLst/>
              <a:ahLst/>
              <a:rect l="l" t="t" r="r" b="b"/>
              <a:pathLst>
                <a:path stroke="0" w="1442020" h="661277">
                  <a:moveTo>
                    <a:pt x="41060" y="0"/>
                  </a:moveTo>
                  <a:cubicBezTo>
                    <a:pt x="819686" y="10213"/>
                    <a:pt x="1439354" y="303264"/>
                    <a:pt x="1439354" y="661277"/>
                  </a:cubicBezTo>
                  <a:lnTo>
                    <a:pt x="0" y="661277"/>
                  </a:lnTo>
                  <a:lnTo>
                    <a:pt x="41060" y="0"/>
                  </a:lnTo>
                  <a:close/>
                </a:path>
                <a:path fill="none" w="1442020" h="661277">
                  <a:moveTo>
                    <a:pt x="41060" y="526473"/>
                  </a:moveTo>
                  <a:cubicBezTo>
                    <a:pt x="1567831" y="772213"/>
                    <a:pt x="1439354" y="303264"/>
                    <a:pt x="1439354" y="661277"/>
                  </a:cubicBezTo>
                </a:path>
              </a:pathLst>
            </a:custGeom>
            <a:noFill/>
            <a:ln w="2844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39640" y="333360"/>
            <a:ext cx="8229600" cy="70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护理质量评价结果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6" name="Group 2"/>
          <p:cNvGrpSpPr/>
          <p:nvPr/>
        </p:nvGrpSpPr>
        <p:grpSpPr>
          <a:xfrm>
            <a:off x="3019320" y="1174680"/>
            <a:ext cx="4578120" cy="4343040"/>
            <a:chOff x="3019320" y="1174680"/>
            <a:chExt cx="4578120" cy="4343040"/>
          </a:xfrm>
        </p:grpSpPr>
        <p:sp>
          <p:nvSpPr>
            <p:cNvPr id="417" name="任意多边形 6"/>
            <p:cNvSpPr/>
            <p:nvPr/>
          </p:nvSpPr>
          <p:spPr>
            <a:xfrm>
              <a:off x="5287680" y="1174680"/>
              <a:ext cx="1328040" cy="932760"/>
            </a:xfrm>
            <a:custGeom>
              <a:avLst/>
              <a:gdLst/>
              <a:ahLst/>
              <a:rect l="l" t="t" r="r" b="b"/>
              <a:pathLst>
                <a:path w="2764608" h="2548726">
                  <a:moveTo>
                    <a:pt x="652730" y="0"/>
                  </a:moveTo>
                  <a:lnTo>
                    <a:pt x="2111878" y="0"/>
                  </a:lnTo>
                  <a:cubicBezTo>
                    <a:pt x="2472371" y="0"/>
                    <a:pt x="2764608" y="292237"/>
                    <a:pt x="2764608" y="652730"/>
                  </a:cubicBezTo>
                  <a:lnTo>
                    <a:pt x="2764608" y="1434805"/>
                  </a:lnTo>
                  <a:cubicBezTo>
                    <a:pt x="2764608" y="1795298"/>
                    <a:pt x="2472371" y="2087535"/>
                    <a:pt x="2111878" y="2087535"/>
                  </a:cubicBezTo>
                  <a:lnTo>
                    <a:pt x="1915333" y="2087535"/>
                  </a:lnTo>
                  <a:lnTo>
                    <a:pt x="2025468" y="2548726"/>
                  </a:lnTo>
                  <a:lnTo>
                    <a:pt x="1436563" y="2087535"/>
                  </a:lnTo>
                  <a:lnTo>
                    <a:pt x="652730" y="2087535"/>
                  </a:lnTo>
                  <a:cubicBezTo>
                    <a:pt x="292237" y="2087535"/>
                    <a:pt x="0" y="1795298"/>
                    <a:pt x="0" y="1434805"/>
                  </a:cubicBezTo>
                  <a:lnTo>
                    <a:pt x="0" y="652730"/>
                  </a:lnTo>
                  <a:cubicBezTo>
                    <a:pt x="0" y="292237"/>
                    <a:pt x="292237" y="0"/>
                    <a:pt x="652730" y="0"/>
                  </a:cubicBezTo>
                  <a:close/>
                </a:path>
              </a:pathLst>
            </a:custGeom>
            <a:solidFill>
              <a:srgbClr val="f9a9a9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8" name="任意多边形 4"/>
            <p:cNvSpPr/>
            <p:nvPr/>
          </p:nvSpPr>
          <p:spPr>
            <a:xfrm>
              <a:off x="3019320" y="2196720"/>
              <a:ext cx="3974040" cy="2795760"/>
            </a:xfrm>
            <a:prstGeom prst="pie">
              <a:avLst/>
            </a:prstGeom>
            <a:solidFill>
              <a:srgbClr val="c6d201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3240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Arial Black"/>
                  <a:ea typeface="宋体"/>
                </a:rPr>
                <a:t>THANKS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9" name="任意多边形 5"/>
            <p:cNvSpPr/>
            <p:nvPr/>
          </p:nvSpPr>
          <p:spPr>
            <a:xfrm flipH="1">
              <a:off x="5842800" y="1737000"/>
              <a:ext cx="1754640" cy="1233720"/>
            </a:xfrm>
            <a:custGeom>
              <a:avLst/>
              <a:gdLst/>
              <a:ahLst/>
              <a:rect l="l" t="t" r="r" b="b"/>
              <a:pathLst>
                <a:path w="2764608" h="2548726">
                  <a:moveTo>
                    <a:pt x="652730" y="0"/>
                  </a:moveTo>
                  <a:lnTo>
                    <a:pt x="2111878" y="0"/>
                  </a:lnTo>
                  <a:cubicBezTo>
                    <a:pt x="2472371" y="0"/>
                    <a:pt x="2764608" y="292237"/>
                    <a:pt x="2764608" y="652730"/>
                  </a:cubicBezTo>
                  <a:lnTo>
                    <a:pt x="2764608" y="1434805"/>
                  </a:lnTo>
                  <a:cubicBezTo>
                    <a:pt x="2764608" y="1795298"/>
                    <a:pt x="2472371" y="2087535"/>
                    <a:pt x="2111878" y="2087535"/>
                  </a:cubicBezTo>
                  <a:lnTo>
                    <a:pt x="1915333" y="2087535"/>
                  </a:lnTo>
                  <a:lnTo>
                    <a:pt x="2025468" y="2548726"/>
                  </a:lnTo>
                  <a:lnTo>
                    <a:pt x="1436563" y="2087535"/>
                  </a:lnTo>
                  <a:lnTo>
                    <a:pt x="652730" y="2087535"/>
                  </a:lnTo>
                  <a:cubicBezTo>
                    <a:pt x="292237" y="2087535"/>
                    <a:pt x="0" y="1795298"/>
                    <a:pt x="0" y="1434805"/>
                  </a:cubicBezTo>
                  <a:lnTo>
                    <a:pt x="0" y="652730"/>
                  </a:lnTo>
                  <a:cubicBezTo>
                    <a:pt x="0" y="292237"/>
                    <a:pt x="292237" y="0"/>
                    <a:pt x="652730" y="0"/>
                  </a:cubicBezTo>
                  <a:close/>
                </a:path>
              </a:pathLst>
            </a:custGeom>
            <a:solidFill>
              <a:srgbClr val="52d8d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20" name="文本框 8"/>
            <p:cNvSpPr/>
            <p:nvPr/>
          </p:nvSpPr>
          <p:spPr>
            <a:xfrm>
              <a:off x="4333680" y="5112000"/>
              <a:ext cx="27230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a6a6a6"/>
                  </a:solidFill>
                  <a:latin typeface="Bell MT"/>
                  <a:ea typeface="宋体"/>
                </a:rPr>
                <a:t>LJXU</a:t>
              </a:r>
              <a:r>
                <a:rPr b="0" lang="en-US" sz="1600" spc="-1" strike="noStrike">
                  <a:solidFill>
                    <a:srgbClr val="a6a6a6"/>
                  </a:solidFill>
                  <a:latin typeface="Bell MT"/>
                  <a:ea typeface="宋体"/>
                </a:rPr>
                <a:t>@</a:t>
              </a:r>
              <a:r>
                <a:rPr b="0" lang="zh-CN" sz="1600" spc="-1" strike="noStrike">
                  <a:solidFill>
                    <a:srgbClr val="a6a6a6"/>
                  </a:solidFill>
                  <a:latin typeface="Bell MT"/>
                  <a:ea typeface="宋体"/>
                </a:rPr>
                <a:t>YBU.EDU.CN</a:t>
              </a:r>
              <a:endParaRPr b="0" lang="en-US" sz="1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a6a6a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一节  质量管理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74" name="Group 4"/>
          <p:cNvGrpSpPr/>
          <p:nvPr/>
        </p:nvGrpSpPr>
        <p:grpSpPr>
          <a:xfrm>
            <a:off x="1180440" y="1989000"/>
            <a:ext cx="6855840" cy="3298320"/>
            <a:chOff x="1180440" y="1989000"/>
            <a:chExt cx="6855840" cy="3298320"/>
          </a:xfrm>
        </p:grpSpPr>
        <p:sp>
          <p:nvSpPr>
            <p:cNvPr id="175" name="直接连接符​​ 11"/>
            <p:cNvSpPr/>
            <p:nvPr/>
          </p:nvSpPr>
          <p:spPr>
            <a:xfrm flipV="1">
              <a:off x="1713960" y="2181600"/>
              <a:ext cx="1302120" cy="1186200"/>
            </a:xfrm>
            <a:prstGeom prst="line">
              <a:avLst/>
            </a:prstGeom>
            <a:ln w="28440">
              <a:solidFill>
                <a:srgbClr val="6ea92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6" name="直接连接符​​ 13"/>
            <p:cNvSpPr/>
            <p:nvPr/>
          </p:nvSpPr>
          <p:spPr>
            <a:xfrm>
              <a:off x="3213000" y="2181960"/>
              <a:ext cx="543600" cy="974520"/>
            </a:xfrm>
            <a:prstGeom prst="line">
              <a:avLst/>
            </a:prstGeom>
            <a:ln w="28440">
              <a:solidFill>
                <a:srgbClr val="6ea92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7" name="椭圆​​ 4"/>
            <p:cNvSpPr/>
            <p:nvPr/>
          </p:nvSpPr>
          <p:spPr>
            <a:xfrm>
              <a:off x="2944800" y="1989000"/>
              <a:ext cx="341280" cy="383760"/>
            </a:xfrm>
            <a:prstGeom prst="ellipse">
              <a:avLst/>
            </a:prstGeom>
            <a:gradFill rotWithShape="0">
              <a:gsLst>
                <a:gs pos="0">
                  <a:srgbClr val="9ed561"/>
                </a:gs>
                <a:gs pos="100000">
                  <a:srgbClr val="ceeab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8" name="椭圆​​ 6"/>
            <p:cNvSpPr/>
            <p:nvPr/>
          </p:nvSpPr>
          <p:spPr>
            <a:xfrm>
              <a:off x="3016080" y="2069640"/>
              <a:ext cx="196560" cy="222120"/>
            </a:xfrm>
            <a:prstGeom prst="ellipse">
              <a:avLst/>
            </a:prstGeom>
            <a:solidFill>
              <a:srgbClr val="6ea92d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9" name="任意多边形 39"/>
            <p:cNvSpPr/>
            <p:nvPr/>
          </p:nvSpPr>
          <p:spPr>
            <a:xfrm rot="21294600">
              <a:off x="1260000" y="3222000"/>
              <a:ext cx="3015720" cy="1935000"/>
            </a:xfrm>
            <a:custGeom>
              <a:avLst/>
              <a:gdLst/>
              <a:ahLst/>
              <a:rect l="l" t="t" r="r" b="b"/>
              <a:pathLst>
                <a:path w="2870929" h="1640509">
                  <a:moveTo>
                    <a:pt x="2696097" y="0"/>
                  </a:moveTo>
                  <a:cubicBezTo>
                    <a:pt x="2789914" y="-318"/>
                    <a:pt x="2866224" y="75476"/>
                    <a:pt x="2866543" y="169292"/>
                  </a:cubicBezTo>
                  <a:lnTo>
                    <a:pt x="2870929" y="1461495"/>
                  </a:lnTo>
                  <a:cubicBezTo>
                    <a:pt x="2871247" y="1555311"/>
                    <a:pt x="2795453" y="1631622"/>
                    <a:pt x="2701636" y="1631941"/>
                  </a:cubicBezTo>
                  <a:lnTo>
                    <a:pt x="177541" y="1640509"/>
                  </a:lnTo>
                  <a:cubicBezTo>
                    <a:pt x="83724" y="1640827"/>
                    <a:pt x="7414" y="1565032"/>
                    <a:pt x="7095" y="1471216"/>
                  </a:cubicBezTo>
                  <a:lnTo>
                    <a:pt x="4834" y="805013"/>
                  </a:lnTo>
                  <a:lnTo>
                    <a:pt x="0" y="805013"/>
                  </a:lnTo>
                  <a:lnTo>
                    <a:pt x="0" y="144881"/>
                  </a:lnTo>
                  <a:cubicBezTo>
                    <a:pt x="0" y="71963"/>
                    <a:pt x="59112" y="12851"/>
                    <a:pt x="132030" y="12851"/>
                  </a:cubicBezTo>
                  <a:lnTo>
                    <a:pt x="151150" y="12851"/>
                  </a:lnTo>
                  <a:lnTo>
                    <a:pt x="172001" y="8568"/>
                  </a:lnTo>
                  <a:lnTo>
                    <a:pt x="2696097" y="0"/>
                  </a:lnTo>
                  <a:close/>
                </a:path>
              </a:pathLst>
            </a:custGeom>
            <a:solidFill>
              <a:srgbClr val="bee3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0" name="圆角矩形​​ 3"/>
            <p:cNvSpPr/>
            <p:nvPr/>
          </p:nvSpPr>
          <p:spPr>
            <a:xfrm rot="21283200">
              <a:off x="1396440" y="3414600"/>
              <a:ext cx="2753280" cy="1586880"/>
            </a:xfrm>
            <a:prstGeom prst="roundRect">
              <a:avLst>
                <a:gd name="adj" fmla="val 7417"/>
              </a:avLst>
            </a:prstGeom>
            <a:solidFill>
              <a:srgbClr val="ffffff"/>
            </a:solidFill>
            <a:ln w="19080">
              <a:solidFill>
                <a:srgbClr val="6ea92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46ca6"/>
                  </a:solidFill>
                  <a:latin typeface="幼圆"/>
                  <a:ea typeface="微软雅黑"/>
                </a:rPr>
                <a:t>质量管理的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46ca6"/>
                  </a:solidFill>
                  <a:latin typeface="幼圆"/>
                  <a:ea typeface="微软雅黑"/>
                </a:rPr>
                <a:t>相关概念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1" name="椭圆​​ 8"/>
            <p:cNvSpPr/>
            <p:nvPr/>
          </p:nvSpPr>
          <p:spPr>
            <a:xfrm rot="21283200">
              <a:off x="1657080" y="3368520"/>
              <a:ext cx="124560" cy="140040"/>
            </a:xfrm>
            <a:prstGeom prst="ellipse">
              <a:avLst/>
            </a:prstGeom>
            <a:gradFill rotWithShape="0">
              <a:gsLst>
                <a:gs pos="0">
                  <a:srgbClr val="bee395"/>
                </a:gs>
                <a:gs pos="100000">
                  <a:srgbClr val="6ea92d"/>
                </a:gs>
              </a:gsLst>
              <a:lin ang="5400000"/>
            </a:gra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2" name="椭圆​​ 9"/>
            <p:cNvSpPr/>
            <p:nvPr/>
          </p:nvSpPr>
          <p:spPr>
            <a:xfrm rot="21283200">
              <a:off x="3700080" y="3156840"/>
              <a:ext cx="125280" cy="140400"/>
            </a:xfrm>
            <a:prstGeom prst="ellipse">
              <a:avLst/>
            </a:prstGeom>
            <a:gradFill rotWithShape="0">
              <a:gsLst>
                <a:gs pos="0">
                  <a:srgbClr val="bee395"/>
                </a:gs>
                <a:gs pos="100000">
                  <a:srgbClr val="6ea92d"/>
                </a:gs>
              </a:gsLst>
              <a:lin ang="5400000"/>
            </a:gra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3" name="直接连接符​​ 11"/>
            <p:cNvSpPr/>
            <p:nvPr/>
          </p:nvSpPr>
          <p:spPr>
            <a:xfrm flipH="1" flipV="1">
              <a:off x="6200280" y="2181600"/>
              <a:ext cx="1302120" cy="1186200"/>
            </a:xfrm>
            <a:prstGeom prst="line">
              <a:avLst/>
            </a:prstGeom>
            <a:ln w="28440">
              <a:solidFill>
                <a:srgbClr val="e2a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4" name="直接连接符​​ 13"/>
            <p:cNvSpPr/>
            <p:nvPr/>
          </p:nvSpPr>
          <p:spPr>
            <a:xfrm flipH="1">
              <a:off x="5460120" y="2181960"/>
              <a:ext cx="543600" cy="974520"/>
            </a:xfrm>
            <a:prstGeom prst="line">
              <a:avLst/>
            </a:prstGeom>
            <a:ln w="28440">
              <a:solidFill>
                <a:srgbClr val="e2a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5" name="椭圆​​ 4"/>
            <p:cNvSpPr/>
            <p:nvPr/>
          </p:nvSpPr>
          <p:spPr>
            <a:xfrm flipH="1">
              <a:off x="5930640" y="1989000"/>
              <a:ext cx="341280" cy="383760"/>
            </a:xfrm>
            <a:prstGeom prst="ellipse">
              <a:avLst/>
            </a:prstGeom>
            <a:gradFill rotWithShape="0">
              <a:gsLst>
                <a:gs pos="0">
                  <a:srgbClr val="ffc000"/>
                </a:gs>
                <a:gs pos="100000">
                  <a:srgbClr val="ffe38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6" name="椭圆​​ 6"/>
            <p:cNvSpPr/>
            <p:nvPr/>
          </p:nvSpPr>
          <p:spPr>
            <a:xfrm flipH="1">
              <a:off x="6004080" y="2069640"/>
              <a:ext cx="196560" cy="222120"/>
            </a:xfrm>
            <a:prstGeom prst="ellipse">
              <a:avLst/>
            </a:prstGeom>
            <a:solidFill>
              <a:srgbClr val="e2ac0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7" name="任意多边形 46"/>
            <p:cNvSpPr/>
            <p:nvPr/>
          </p:nvSpPr>
          <p:spPr>
            <a:xfrm flipH="1" rot="305400">
              <a:off x="4939920" y="3222000"/>
              <a:ext cx="3015720" cy="1935000"/>
            </a:xfrm>
            <a:custGeom>
              <a:avLst/>
              <a:gdLst/>
              <a:ahLst/>
              <a:rect l="l" t="t" r="r" b="b"/>
              <a:pathLst>
                <a:path w="2870929" h="1640509">
                  <a:moveTo>
                    <a:pt x="2696097" y="0"/>
                  </a:moveTo>
                  <a:cubicBezTo>
                    <a:pt x="2789914" y="-318"/>
                    <a:pt x="2866224" y="75476"/>
                    <a:pt x="2866543" y="169292"/>
                  </a:cubicBezTo>
                  <a:lnTo>
                    <a:pt x="2870929" y="1461495"/>
                  </a:lnTo>
                  <a:cubicBezTo>
                    <a:pt x="2871247" y="1555311"/>
                    <a:pt x="2795453" y="1631622"/>
                    <a:pt x="2701636" y="1631941"/>
                  </a:cubicBezTo>
                  <a:lnTo>
                    <a:pt x="177541" y="1640509"/>
                  </a:lnTo>
                  <a:cubicBezTo>
                    <a:pt x="83724" y="1640827"/>
                    <a:pt x="7414" y="1565032"/>
                    <a:pt x="7095" y="1471216"/>
                  </a:cubicBezTo>
                  <a:lnTo>
                    <a:pt x="4834" y="805013"/>
                  </a:lnTo>
                  <a:lnTo>
                    <a:pt x="0" y="805013"/>
                  </a:lnTo>
                  <a:lnTo>
                    <a:pt x="0" y="144881"/>
                  </a:lnTo>
                  <a:cubicBezTo>
                    <a:pt x="0" y="71963"/>
                    <a:pt x="59112" y="12851"/>
                    <a:pt x="132030" y="12851"/>
                  </a:cubicBezTo>
                  <a:lnTo>
                    <a:pt x="151150" y="12851"/>
                  </a:lnTo>
                  <a:lnTo>
                    <a:pt x="172001" y="8568"/>
                  </a:lnTo>
                  <a:lnTo>
                    <a:pt x="2696097" y="0"/>
                  </a:lnTo>
                  <a:close/>
                </a:path>
              </a:pathLst>
            </a:custGeom>
            <a:solidFill>
              <a:srgbClr val="ffe3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8" name="圆角矩形​​ 3"/>
            <p:cNvSpPr/>
            <p:nvPr/>
          </p:nvSpPr>
          <p:spPr>
            <a:xfrm flipH="1" rot="316800">
              <a:off x="5065200" y="3414600"/>
              <a:ext cx="2753280" cy="1587240"/>
            </a:xfrm>
            <a:prstGeom prst="roundRect">
              <a:avLst>
                <a:gd name="adj" fmla="val 7417"/>
              </a:avLst>
            </a:prstGeom>
            <a:solidFill>
              <a:srgbClr val="ffffff"/>
            </a:solidFill>
            <a:ln w="19080">
              <a:solidFill>
                <a:srgbClr val="d09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46ca6"/>
                  </a:solidFill>
                  <a:latin typeface="幼圆"/>
                  <a:ea typeface="微软雅黑"/>
                </a:rPr>
                <a:t>质量观的演变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9" name="椭圆​​ 8"/>
            <p:cNvSpPr/>
            <p:nvPr/>
          </p:nvSpPr>
          <p:spPr>
            <a:xfrm flipH="1" rot="316800">
              <a:off x="7435800" y="3368520"/>
              <a:ext cx="125280" cy="140040"/>
            </a:xfrm>
            <a:prstGeom prst="ellipse">
              <a:avLst/>
            </a:prstGeom>
            <a:gradFill rotWithShape="0">
              <a:gsLst>
                <a:gs pos="0">
                  <a:srgbClr val="ffcc29"/>
                </a:gs>
                <a:gs pos="100000">
                  <a:srgbClr val="e2ac00"/>
                </a:gs>
              </a:gsLst>
              <a:lin ang="5400000"/>
            </a:gra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0" name="椭圆​​ 9"/>
            <p:cNvSpPr/>
            <p:nvPr/>
          </p:nvSpPr>
          <p:spPr>
            <a:xfrm flipH="1" rot="316800">
              <a:off x="5392800" y="3156840"/>
              <a:ext cx="124560" cy="140760"/>
            </a:xfrm>
            <a:prstGeom prst="ellipse">
              <a:avLst/>
            </a:prstGeom>
            <a:gradFill rotWithShape="0">
              <a:gsLst>
                <a:gs pos="0">
                  <a:srgbClr val="ffcc29"/>
                </a:gs>
                <a:gs pos="100000">
                  <a:srgbClr val="e2ac00"/>
                </a:gs>
              </a:gsLst>
              <a:lin ang="5400000"/>
            </a:gra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质量管理的相关概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Verdana"/>
              </a:rPr>
              <a:t>质量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产品或服务的优劣程度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Verdana"/>
              </a:rPr>
              <a:t>质量意识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一个组织及其员工对待质量的态度和信念，自觉地保证工作质量和服务质量的意志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Verdana"/>
              </a:rPr>
              <a:t>质量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组织为使服务质量满足质量要求，开展的策划、组织、实施、控制、检查、审核及改进有关活动的总和，包括质量策划、质量控制、质量保证和质量改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500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质量管理的相关概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-360" y="137124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Verdana"/>
                <a:ea typeface="宋体"/>
              </a:rPr>
              <a:t>质量策划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确定质量目标和要求、规定必要运行过程和相关资源的活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Verdana"/>
                <a:ea typeface="宋体"/>
              </a:rPr>
              <a:t>质量控制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对影响服务质量的各环节、各因素制订相应的监控计划和程序，对发现的问题采取纠正措施的过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质量管理的相关概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Verdana"/>
                <a:ea typeface="宋体"/>
              </a:rPr>
              <a:t>质量保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内部质量保证：对组织的管理者提供信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外部质量保证：向顾客提供信任，展示组织具备满足其要求的能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Verdana"/>
                <a:ea typeface="宋体"/>
              </a:rPr>
              <a:t>质量改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提高质量效果和效率的活动过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持续质量改进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PDC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循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" dur="5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5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7" name="Group 2"/>
          <p:cNvGrpSpPr/>
          <p:nvPr/>
        </p:nvGrpSpPr>
        <p:grpSpPr>
          <a:xfrm>
            <a:off x="539640" y="1773360"/>
            <a:ext cx="7991640" cy="4479840"/>
            <a:chOff x="539640" y="1773360"/>
            <a:chExt cx="7991640" cy="4479840"/>
          </a:xfrm>
        </p:grpSpPr>
        <p:sp>
          <p:nvSpPr>
            <p:cNvPr id="198" name="椭圆 15"/>
            <p:cNvSpPr/>
            <p:nvPr/>
          </p:nvSpPr>
          <p:spPr>
            <a:xfrm>
              <a:off x="6689520" y="2390040"/>
              <a:ext cx="1841760" cy="1744560"/>
            </a:xfrm>
            <a:prstGeom prst="ellipse">
              <a:avLst/>
            </a:prstGeom>
            <a:solidFill>
              <a:srgbClr val="ff84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9" name="椭圆 16"/>
            <p:cNvSpPr/>
            <p:nvPr/>
          </p:nvSpPr>
          <p:spPr>
            <a:xfrm>
              <a:off x="6751080" y="2430000"/>
              <a:ext cx="1709280" cy="1539360"/>
            </a:xfrm>
            <a:prstGeom prst="ellipse">
              <a:avLst/>
            </a:prstGeom>
            <a:solidFill>
              <a:srgbClr val="cce8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9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卓越性质量阶段</a:t>
              </a:r>
              <a:endParaRPr b="0" lang="en-US" sz="1900" spc="-1" strike="noStrike">
                <a:solidFill>
                  <a:srgbClr val="046ca6"/>
                </a:solidFill>
                <a:latin typeface="Arial"/>
              </a:endParaRPr>
            </a:p>
          </p:txBody>
        </p:sp>
        <p:pic>
          <p:nvPicPr>
            <p:cNvPr id="200" name="椭圆 17" descr=""/>
            <p:cNvPicPr/>
            <p:nvPr/>
          </p:nvPicPr>
          <p:blipFill>
            <a:blip r:embed="rId1"/>
            <a:stretch/>
          </p:blipFill>
          <p:spPr>
            <a:xfrm>
              <a:off x="7045560" y="1773360"/>
              <a:ext cx="895320" cy="113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椭圆 5"/>
            <p:cNvSpPr/>
            <p:nvPr/>
          </p:nvSpPr>
          <p:spPr>
            <a:xfrm rot="18240000">
              <a:off x="4652640" y="2943720"/>
              <a:ext cx="2140560" cy="2012400"/>
            </a:xfrm>
            <a:custGeom>
              <a:avLst/>
              <a:gdLst/>
              <a:ahLst/>
              <a:rect l="l" t="t" r="r" b="b"/>
              <a:pathLst>
                <a:path w="2474483" h="2387362">
                  <a:moveTo>
                    <a:pt x="1023374" y="0"/>
                  </a:moveTo>
                  <a:cubicBezTo>
                    <a:pt x="1588568" y="0"/>
                    <a:pt x="2046748" y="458180"/>
                    <a:pt x="2046748" y="1023374"/>
                  </a:cubicBezTo>
                  <a:cubicBezTo>
                    <a:pt x="2046748" y="1223242"/>
                    <a:pt x="1989452" y="1409727"/>
                    <a:pt x="1889481" y="1566731"/>
                  </a:cubicBezTo>
                  <a:lnTo>
                    <a:pt x="2190488" y="1759978"/>
                  </a:lnTo>
                  <a:lnTo>
                    <a:pt x="2324749" y="1550850"/>
                  </a:lnTo>
                  <a:lnTo>
                    <a:pt x="2474483" y="2237628"/>
                  </a:lnTo>
                  <a:lnTo>
                    <a:pt x="1787705" y="2387362"/>
                  </a:lnTo>
                  <a:lnTo>
                    <a:pt x="1921966" y="2178234"/>
                  </a:lnTo>
                  <a:lnTo>
                    <a:pt x="1518160" y="1918989"/>
                  </a:lnTo>
                  <a:cubicBezTo>
                    <a:pt x="1371651" y="2000515"/>
                    <a:pt x="1202912" y="2046748"/>
                    <a:pt x="1023374" y="2046748"/>
                  </a:cubicBezTo>
                  <a:cubicBezTo>
                    <a:pt x="458180" y="2046748"/>
                    <a:pt x="0" y="1588568"/>
                    <a:pt x="0" y="1023374"/>
                  </a:cubicBezTo>
                  <a:cubicBezTo>
                    <a:pt x="0" y="458180"/>
                    <a:pt x="458180" y="0"/>
                    <a:pt x="1023374" y="0"/>
                  </a:cubicBezTo>
                  <a:close/>
                </a:path>
              </a:pathLst>
            </a:custGeom>
            <a:solidFill>
              <a:srgbClr val="b64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2" name="椭圆 19"/>
            <p:cNvSpPr/>
            <p:nvPr/>
          </p:nvSpPr>
          <p:spPr>
            <a:xfrm>
              <a:off x="4709160" y="3193560"/>
              <a:ext cx="1577880" cy="1618920"/>
            </a:xfrm>
            <a:prstGeom prst="ellipse">
              <a:avLst/>
            </a:prstGeom>
            <a:solidFill>
              <a:srgbClr val="cce8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9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满意性质量阶段</a:t>
              </a:r>
              <a:endParaRPr b="0" lang="en-US" sz="1900" spc="-1" strike="noStrike">
                <a:solidFill>
                  <a:srgbClr val="046ca6"/>
                </a:solidFill>
                <a:latin typeface="Arial"/>
              </a:endParaRPr>
            </a:p>
          </p:txBody>
        </p:sp>
        <p:pic>
          <p:nvPicPr>
            <p:cNvPr id="203" name="椭圆 20" descr=""/>
            <p:cNvPicPr/>
            <p:nvPr/>
          </p:nvPicPr>
          <p:blipFill>
            <a:blip r:embed="rId2"/>
            <a:stretch/>
          </p:blipFill>
          <p:spPr>
            <a:xfrm>
              <a:off x="5029560" y="2563920"/>
              <a:ext cx="895320" cy="112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椭圆 5"/>
            <p:cNvSpPr/>
            <p:nvPr/>
          </p:nvSpPr>
          <p:spPr>
            <a:xfrm rot="18180000">
              <a:off x="2545200" y="3799800"/>
              <a:ext cx="2139840" cy="2014560"/>
            </a:xfrm>
            <a:custGeom>
              <a:avLst/>
              <a:gdLst/>
              <a:ahLst/>
              <a:rect l="l" t="t" r="r" b="b"/>
              <a:pathLst>
                <a:path w="2474483" h="2387362">
                  <a:moveTo>
                    <a:pt x="1023374" y="0"/>
                  </a:moveTo>
                  <a:cubicBezTo>
                    <a:pt x="1588568" y="0"/>
                    <a:pt x="2046748" y="458180"/>
                    <a:pt x="2046748" y="1023374"/>
                  </a:cubicBezTo>
                  <a:cubicBezTo>
                    <a:pt x="2046748" y="1223242"/>
                    <a:pt x="1989452" y="1409727"/>
                    <a:pt x="1889481" y="1566731"/>
                  </a:cubicBezTo>
                  <a:lnTo>
                    <a:pt x="2190488" y="1759978"/>
                  </a:lnTo>
                  <a:lnTo>
                    <a:pt x="2324749" y="1550850"/>
                  </a:lnTo>
                  <a:lnTo>
                    <a:pt x="2474483" y="2237628"/>
                  </a:lnTo>
                  <a:lnTo>
                    <a:pt x="1787705" y="2387362"/>
                  </a:lnTo>
                  <a:lnTo>
                    <a:pt x="1921966" y="2178234"/>
                  </a:lnTo>
                  <a:lnTo>
                    <a:pt x="1518160" y="1918989"/>
                  </a:lnTo>
                  <a:cubicBezTo>
                    <a:pt x="1371651" y="2000515"/>
                    <a:pt x="1202912" y="2046748"/>
                    <a:pt x="1023374" y="2046748"/>
                  </a:cubicBezTo>
                  <a:cubicBezTo>
                    <a:pt x="458180" y="2046748"/>
                    <a:pt x="0" y="1588568"/>
                    <a:pt x="0" y="1023374"/>
                  </a:cubicBezTo>
                  <a:cubicBezTo>
                    <a:pt x="0" y="458180"/>
                    <a:pt x="458180" y="0"/>
                    <a:pt x="1023374" y="0"/>
                  </a:cubicBezTo>
                  <a:close/>
                </a:path>
              </a:pathLst>
            </a:custGeom>
            <a:solidFill>
              <a:srgbClr val="ffbd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5" name="椭圆 22"/>
            <p:cNvSpPr/>
            <p:nvPr/>
          </p:nvSpPr>
          <p:spPr>
            <a:xfrm>
              <a:off x="2611440" y="4071240"/>
              <a:ext cx="1578600" cy="1618920"/>
            </a:xfrm>
            <a:prstGeom prst="ellipse">
              <a:avLst/>
            </a:prstGeom>
            <a:solidFill>
              <a:srgbClr val="cce8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9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适用性质量阶段</a:t>
              </a:r>
              <a:endParaRPr b="0" lang="en-US" sz="1900" spc="-1" strike="noStrike">
                <a:solidFill>
                  <a:srgbClr val="046ca6"/>
                </a:solidFill>
                <a:latin typeface="Arial"/>
              </a:endParaRPr>
            </a:p>
          </p:txBody>
        </p:sp>
        <p:pic>
          <p:nvPicPr>
            <p:cNvPr id="206" name="椭圆 5" descr=""/>
            <p:cNvPicPr/>
            <p:nvPr/>
          </p:nvPicPr>
          <p:blipFill>
            <a:blip r:embed="rId3"/>
            <a:stretch/>
          </p:blipFill>
          <p:spPr>
            <a:xfrm>
              <a:off x="539640" y="2784960"/>
              <a:ext cx="2120400" cy="210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椭圆 31"/>
            <p:cNvSpPr/>
            <p:nvPr/>
          </p:nvSpPr>
          <p:spPr>
            <a:xfrm>
              <a:off x="624240" y="2841120"/>
              <a:ext cx="1578600" cy="1618200"/>
            </a:xfrm>
            <a:prstGeom prst="ellipse">
              <a:avLst/>
            </a:prstGeom>
            <a:solidFill>
              <a:srgbClr val="cce8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9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符合性质量阶段</a:t>
              </a:r>
              <a:endParaRPr b="0" lang="en-US" sz="1900" spc="-1" strike="noStrike">
                <a:solidFill>
                  <a:srgbClr val="046ca6"/>
                </a:solidFill>
                <a:latin typeface="Arial"/>
              </a:endParaRPr>
            </a:p>
          </p:txBody>
        </p:sp>
        <p:pic>
          <p:nvPicPr>
            <p:cNvPr id="208" name="椭圆 33" descr=""/>
            <p:cNvPicPr/>
            <p:nvPr/>
          </p:nvPicPr>
          <p:blipFill>
            <a:blip r:embed="rId4"/>
            <a:stretch/>
          </p:blipFill>
          <p:spPr>
            <a:xfrm>
              <a:off x="1193040" y="2307600"/>
              <a:ext cx="897480" cy="112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9" name="椭圆 35" descr=""/>
            <p:cNvPicPr/>
            <p:nvPr/>
          </p:nvPicPr>
          <p:blipFill>
            <a:blip r:embed="rId5"/>
            <a:stretch/>
          </p:blipFill>
          <p:spPr>
            <a:xfrm>
              <a:off x="2907000" y="3464640"/>
              <a:ext cx="896040" cy="1124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微软雅黑"/>
              </a:rPr>
              <a:t>质量观的演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二节 护理质量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213" name="Group 4"/>
          <p:cNvGrpSpPr/>
          <p:nvPr/>
        </p:nvGrpSpPr>
        <p:grpSpPr>
          <a:xfrm>
            <a:off x="1909800" y="1773360"/>
            <a:ext cx="5472000" cy="3960720"/>
            <a:chOff x="1909800" y="1773360"/>
            <a:chExt cx="5472000" cy="3960720"/>
          </a:xfrm>
        </p:grpSpPr>
        <p:sp>
          <p:nvSpPr>
            <p:cNvPr id="214" name="任意多边形 11"/>
            <p:cNvSpPr/>
            <p:nvPr/>
          </p:nvSpPr>
          <p:spPr>
            <a:xfrm>
              <a:off x="2714400" y="1773360"/>
              <a:ext cx="4667400" cy="837000"/>
            </a:xfrm>
            <a:prstGeom prst="pie">
              <a:avLst/>
            </a:prstGeom>
            <a:solidFill>
              <a:srgbClr val="b3e2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0" rIns="0" tIns="0" bIns="0" anchor="ctr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护理质量管理的概念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5" name="KSO_GT1"/>
            <p:cNvSpPr/>
            <p:nvPr/>
          </p:nvSpPr>
          <p:spPr>
            <a:xfrm>
              <a:off x="1909800" y="1773360"/>
              <a:ext cx="916920" cy="8370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4ebb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4ebbc6"/>
                  </a:solidFill>
                  <a:latin typeface="Impact"/>
                  <a:ea typeface="微软雅黑"/>
                </a:rPr>
                <a:t>1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6" name="任意多边形 12"/>
            <p:cNvSpPr/>
            <p:nvPr/>
          </p:nvSpPr>
          <p:spPr>
            <a:xfrm>
              <a:off x="2714400" y="2814480"/>
              <a:ext cx="4667400" cy="837000"/>
            </a:xfrm>
            <a:prstGeom prst="pie">
              <a:avLst/>
            </a:prstGeom>
            <a:solidFill>
              <a:srgbClr val="ffca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0" rIns="0" tIns="0" bIns="0" anchor="ctr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护理质量管理的任务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7" name="KSO_GT1"/>
            <p:cNvSpPr/>
            <p:nvPr/>
          </p:nvSpPr>
          <p:spPr>
            <a:xfrm>
              <a:off x="1909800" y="2814480"/>
              <a:ext cx="916920" cy="8370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ff96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ff9684"/>
                  </a:solidFill>
                  <a:latin typeface="Impact"/>
                  <a:ea typeface="微软雅黑"/>
                </a:rPr>
                <a:t>2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8" name="任意多边形 14"/>
            <p:cNvSpPr/>
            <p:nvPr/>
          </p:nvSpPr>
          <p:spPr>
            <a:xfrm>
              <a:off x="2714400" y="3855600"/>
              <a:ext cx="4667400" cy="837000"/>
            </a:xfrm>
            <a:prstGeom prst="pie">
              <a:avLst/>
            </a:prstGeom>
            <a:solidFill>
              <a:srgbClr val="b3e2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0" rIns="0" tIns="0" bIns="0" anchor="ctr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护理质量管理的基本原则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9" name="KSO_GT1"/>
            <p:cNvSpPr/>
            <p:nvPr/>
          </p:nvSpPr>
          <p:spPr>
            <a:xfrm>
              <a:off x="1909800" y="3855600"/>
              <a:ext cx="916920" cy="8370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4ebb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4ebbc6"/>
                  </a:solidFill>
                  <a:latin typeface="Impact"/>
                  <a:ea typeface="微软雅黑"/>
                </a:rPr>
                <a:t>3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0" name="任意多边形 8"/>
            <p:cNvSpPr/>
            <p:nvPr/>
          </p:nvSpPr>
          <p:spPr>
            <a:xfrm>
              <a:off x="2714400" y="4897080"/>
              <a:ext cx="4667400" cy="837000"/>
            </a:xfrm>
            <a:prstGeom prst="pie">
              <a:avLst/>
            </a:prstGeom>
            <a:solidFill>
              <a:srgbClr val="ffca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00" rIns="0" tIns="0" bIns="0" anchor="ctr">
              <a:norm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Arial"/>
                  <a:ea typeface="微软雅黑"/>
                </a:rPr>
                <a:t>护理质量管理的基本标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1" name="KSO_GT1"/>
            <p:cNvSpPr/>
            <p:nvPr/>
          </p:nvSpPr>
          <p:spPr>
            <a:xfrm>
              <a:off x="1909800" y="4897080"/>
              <a:ext cx="916920" cy="8370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ff96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ff9684"/>
                  </a:solidFill>
                  <a:latin typeface="Impact"/>
                  <a:ea typeface="微软雅黑"/>
                </a:rPr>
                <a:t>4</a:t>
              </a:r>
              <a:endParaRPr b="0" lang="en-US" sz="40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dell</cp:lastModifiedBy>
  <cp:lastPrinted>1899-12-30T00:00:00Z</cp:lastPrinted>
  <dcterms:modified xsi:type="dcterms:W3CDTF">2015-11-13T01:45:53Z</dcterms:modified>
  <cp:revision>22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